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13.wmf" ContentType="image/x-wmf"/>
  <Override PartName="/ppt/media/image16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  <p:sldId id="314" r:id="rId79"/>
    <p:sldId id="315" r:id="rId80"/>
    <p:sldId id="316" r:id="rId81"/>
    <p:sldId id="317" r:id="rId82"/>
    <p:sldId id="318" r:id="rId83"/>
    <p:sldId id="319" r:id="rId84"/>
    <p:sldId id="320" r:id="rId85"/>
    <p:sldId id="321" r:id="rId86"/>
    <p:sldId id="322" r:id="rId87"/>
    <p:sldId id="323" r:id="rId88"/>
    <p:sldId id="324" r:id="rId89"/>
    <p:sldId id="325" r:id="rId90"/>
  </p:sldIdLst>
  <p:sldSz cx="9907588" cy="6858000"/>
  <p:notesSz cx="66706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slide" Target="slides/slide59.xml"/><Relationship Id="rId80" Type="http://schemas.openxmlformats.org/officeDocument/2006/relationships/slide" Target="slides/slide60.xml"/><Relationship Id="rId81" Type="http://schemas.openxmlformats.org/officeDocument/2006/relationships/slide" Target="slides/slide61.xml"/><Relationship Id="rId82" Type="http://schemas.openxmlformats.org/officeDocument/2006/relationships/slide" Target="slides/slide62.xml"/><Relationship Id="rId83" Type="http://schemas.openxmlformats.org/officeDocument/2006/relationships/slide" Target="slides/slide63.xml"/><Relationship Id="rId84" Type="http://schemas.openxmlformats.org/officeDocument/2006/relationships/slide" Target="slides/slide64.xml"/><Relationship Id="rId85" Type="http://schemas.openxmlformats.org/officeDocument/2006/relationships/slide" Target="slides/slide65.xml"/><Relationship Id="rId86" Type="http://schemas.openxmlformats.org/officeDocument/2006/relationships/slide" Target="slides/slide66.xml"/><Relationship Id="rId87" Type="http://schemas.openxmlformats.org/officeDocument/2006/relationships/slide" Target="slides/slide67.xml"/><Relationship Id="rId88" Type="http://schemas.openxmlformats.org/officeDocument/2006/relationships/slide" Target="slides/slide68.xml"/><Relationship Id="rId89" Type="http://schemas.openxmlformats.org/officeDocument/2006/relationships/slide" Target="slides/slide69.xml"/><Relationship Id="rId90" Type="http://schemas.openxmlformats.org/officeDocument/2006/relationships/slide" Target="slides/slide70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0" y="0"/>
            <a:ext cx="66708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dt" idx="46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sldImg"/>
          </p:nvPr>
        </p:nvSpPr>
        <p:spPr>
          <a:xfrm>
            <a:off x="663120" y="740880"/>
            <a:ext cx="534060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ftr" idx="47"/>
          </p:nvPr>
        </p:nvSpPr>
        <p:spPr>
          <a:xfrm>
            <a:off x="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omponent Regional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 type="sldNum" idx="48"/>
          </p:nvPr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B1E48A7F-EAC9-42AE-B5DA-DA14C42AA8B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663480" y="741240"/>
            <a:ext cx="5340600" cy="369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Symbol zastępczy numeru slajdu 3"/>
          <p:cNvSpPr/>
          <p:nvPr/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D3E287E0-C28D-4F55-AE7A-2F6C1D3F9E0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663480" y="741240"/>
            <a:ext cx="5340600" cy="369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Symbol zastępczy numeru slajdu 3"/>
          <p:cNvSpPr/>
          <p:nvPr/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0DE2F00C-06A6-4E50-B5ED-1B06C085911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7C710-FEDD-4D03-BA7D-95D58D1F62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B506A-2A48-45AD-80F3-775058B5A3F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26ADF-9B30-4CE7-9CB2-AC949089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F9857-EB76-4169-8B4B-91B1D41D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DA947-548C-4F67-98D4-CFC8332A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075A1-1377-43CD-8C52-E7C81DE4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97427-877A-4855-8B4C-56596984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8FA2E-D58C-44BA-8374-A5D901CA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DECD0-6753-4B89-A95B-9ADAEA78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ED9DA-CCCF-48A5-955F-6FED67574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2614F-6629-437B-9042-82315C6A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9ED62-E273-40BB-8D3A-EB92DFC9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77AED-4CDE-4505-B1F9-A69D426B9ED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6C61E-FFB8-4AFD-92B1-33BCDECD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A78F7-92F7-4DA0-8ADB-8333CD07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CAB45-A3F8-48DF-97FF-A4D139B7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B8730-120F-44AE-BAD7-4501A073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C2A24-E510-4520-ACDB-136C079C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4B151-5763-4BE5-8E4E-A5AC186E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80F54-55C5-4464-9DD3-B8C6941A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BB359-F4CA-475A-8C8A-0E548443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FD725-2277-42D6-8820-B7B612C0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E86C5-00C1-43F5-B91C-9AA6D188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E0A59-3AF1-4D37-A1FA-22F8D031606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23EC4-3616-4908-9662-378CC671A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7E958-8118-48A7-ABC2-FF069BB2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ED493-B759-47C6-A1B7-13992518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2CA82-59DB-452C-8B3F-B9FC9430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12078-5C62-409E-9D01-D25319DE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C46A3-A86F-4C36-9F29-68E35363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C3389-03ED-45E0-A9CE-E2E7DF9B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ED3A6-B492-4CFC-9F50-8EFA2249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A159F-7E32-4CBA-889C-D24C5383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3A523-7EA8-4367-9CE2-A819F3EC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2D58D-A4AA-4FC2-BE7C-A818D7D9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48A35-1CF4-4304-B202-346627751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427FB-7692-440D-A01D-930CFAD3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E6FEC-C260-4DB0-8591-21FDFC7C5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FF951-FC19-4605-87F3-42EC3FC8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B3EC2-EB25-4693-A2E7-5E85F80A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C289C-A8BD-40ED-8748-82228A2F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F8C17-99F0-46FC-9AB8-7A283E18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B80CA-58A4-4C97-BBB6-6D062566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8D00E-86B3-4C6E-9B49-E18E505C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8D2CD-14A8-4717-9046-A77BFEE5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BF195-7DE7-4F26-8320-A7749941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D9C7C-B5B8-4E50-9F57-8016CBBB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102B1-1C8F-4866-8F5F-12C35C5EB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84AA1D-C571-4399-BD4A-0A97B969E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C7F570-6BF3-4D36-AEE8-CDF6796B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100E8-F2DA-4FC7-8808-795BE659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91BE5-0BAA-49EB-8014-4D1CFDC8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6A676-317B-4CA9-B28A-A857998D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52126-287D-4A47-922D-995CC0C8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61F50-8363-4D09-9941-1BC7A2FD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E7554-9615-4EED-8F81-75A17B77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201D07-AF2A-4CD7-A87A-C156CFAB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20845-8304-4815-84EC-3E917A53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DB5E7-19F6-4B12-935B-A637F911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EF74D-F42D-4EBA-9077-CBC5F7CED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232D3-E466-428F-87D8-BD947367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ECD4F-5BB7-470C-8368-BFD881C2A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37260-C33A-4A35-A919-5332E41A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6DF56-BA67-473A-A682-A05C7BA1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61E9B-048E-450C-BDEB-1EFCC252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3549C-00E7-4C55-A14A-4C317ED2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92574-15C7-4362-A235-489463C0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5F13F-B528-4075-9B90-A3BFA6AB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26D9D-5040-4E2B-8A75-7676A605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C2265-58D1-4267-8908-89EF1835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3231F-42D7-4DF4-82E1-54626843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E4F14-3AC6-4662-AC3B-E3B84515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23BD2-73C0-48B2-88F9-4310349A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CCD1E4-8921-4929-A05A-0833936A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E83F8D-46D9-4071-A59B-FCA361C0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283AA0-1690-4835-9CA5-20FC4255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5C915-0853-4138-BEF1-A1273ABD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2E0698-FF03-4B94-92C0-EE711646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DA648A-5600-4CAA-A91C-D8A1D6FE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B0DEF-5C3B-45BB-BC6E-44B8D647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74465-063C-40F6-93DD-B173BE93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8DB2A-940E-4740-9BDF-F849F593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B975F-32B7-488C-BAF1-373C3E1F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43707-4665-4A25-8F37-D6489AF94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1B68B-0DEA-403C-9E8A-93AF0672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7FA734-7498-4537-98F2-6B9AC7A9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CD169E-B765-4EED-A4A5-2A104D7B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1E86A6-6A5A-4F36-A907-846E8055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E122A5-20F4-4296-9741-2C6C7420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B89B5F-FEA1-459F-92C9-1AFCF03A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00C8F7-6B74-45C4-AC05-E118900C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72D32A-75E8-4121-A2D8-72168B6D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4BE2CB-6631-4295-BAF1-B2D2CA50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48B0AB-2E3C-4988-AF61-086E7617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723A50-092E-469F-8593-DFF1B67B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1C1156-AE02-40E3-BC05-84A365F97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749900-46C2-4D35-9489-9CE32ED4A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FA8E9C-03D8-497C-8BD5-05ABDAA7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02CCE6-5A3E-4C82-9A3E-861E238A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D4C715-2BE4-422F-924D-4B4E0C09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D721CE-B491-408F-8E61-672E59D7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1532B4-65F5-4155-ACAC-C606901C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4173BE-D93C-4E88-9679-F5F661CF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767915-34F7-4F56-8673-365CCF7B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6A3A5-8414-4268-A256-95F6962982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E94F51-34C8-40DF-879C-5F1927F0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678557-4516-4B8C-B3E9-208289A8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E32ECC-A35C-4F3F-A849-48B2B883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5D7ACB-40BA-471C-9CE6-3D80FCED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8C6FB2-1695-4CC6-9118-60D475E9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8D5ADE-A879-4094-A698-C093CFF89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6285CF-FC25-4D23-B8A5-961CD3B8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1056FD-552A-4177-961F-D5FAF08C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4EB585-84D5-48C0-9287-5BDA712E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B508E7-C5F9-4AE2-9079-3B036E12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FBB6A2-8DEA-427E-A6EB-2A3C223E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F5ACE6-CFE1-42A6-8022-C9B92E22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191BC6-1C1A-429F-AD94-FDC9E8D0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A22A0C-5E18-4558-B2BA-C426B4ED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37576D-6BF1-4C64-AF0A-EAAFDCD0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7E51D3-D5AE-4BB5-AAD7-E086DD7B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056DC1-02B0-480C-BAA6-77C46B3E0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054DD-DEA8-4D31-A963-914A02AD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D1C52-248E-42AF-9F3D-B3CF1314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8151B-9A1B-4376-9DA2-65683F0D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E2D50-C10F-4DE2-AD1C-DBDC2A11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1DF2F-0870-4C8E-B89D-E19B45D6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76C48-AC8D-4654-91AF-08ADD7FD326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4BD53-AE24-419B-846A-B33BC3B7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2CA69-FC3D-4A4B-ACA7-1F7DFC80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8FD2E-B3BA-48AF-96DD-261D5C69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02FC0-B8BB-4C22-A8EC-4085FC3D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DB23D-E797-4705-932B-53AE3450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70410-0936-48BB-A908-5D2EB62F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AFF79-2540-49CF-B109-E444BA43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0BE68-FCBF-4BCF-92D5-5B6DFEF72EA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3D25A1-6741-4242-B423-9E5B6D94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F6A3C-A9BF-41AC-A36E-076F44D88C1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084F98-6276-4C31-A149-13453DF0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D823C5-C773-47D0-8E3A-12C099AB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1033E4-8959-4522-A068-89FA1C2A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CB889-6FF9-44F1-9795-F9C29835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9B7B6C-C0F1-4A49-82C8-3B357C8B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E1479E-8094-4742-A77F-48B58108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D5CA8E-A551-484E-8BE6-E56132B2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E575B8-902C-4153-B197-EFFDF019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9C1553-C3BD-45B1-8C12-1B95F004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641D0B-1AFE-4D22-9529-A17D9574F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E7DAB-ED90-4603-983B-7EDC61E9F2A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CF0BF5-0169-4B47-9867-5CF456E6F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DBF734-455E-4B46-8B20-F94D9AE91F0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D0AF19-CD52-40CB-A0EC-617CDD6D736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F58CA6-DA65-479B-B8D3-F88824603F2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5E055A-03CF-42FC-A47F-F19E139E370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ABC97F-8BA5-4439-85A9-C2F3AB9FBF5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090D13-2A81-44E0-8816-0FB78D5D4F7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D8080A-97B5-46CF-B54A-0A5BDDB9F02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83E585-64B7-4AB8-8E29-CBE594F6C84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A98A15-BA9D-42A3-8867-A4E34C86E4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44863-801A-41B0-99DF-6338FA7D2B0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FD8971-68AF-44F6-A31B-3E9C6DC6B22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7E0B24-156E-4F63-B388-ABB30E3AAC3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545E84-6DC4-4445-B5D8-A0ADC945F10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5CD69-0808-4381-97AE-C83E507215A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418B2-0936-495E-A668-43C6EB86F15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F4EAC-7051-4A27-B75E-A9402DBC20A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73C45-D92E-4049-9568-727AB30F41E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7D671-39C6-44C3-9CD8-A3CB100C360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85B4D-6A2A-4813-830F-763F39ADD64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2131F-2EC8-4039-BB75-ED1B2E8D0D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1A8E1-D038-481E-97A9-EEFD0553CC6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DAD3B-898F-4763-93C9-E502B03C492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3C220-F22A-4F5B-8AD9-25A7BA4BC8C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CD628-57A1-4DB8-93A8-247F9E3A6F6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C5D66-CC77-4A08-8769-DA76056702E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0C0E7-EFF1-41D4-9406-E0714E4BEF5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1BB2B-F85B-461F-B2A7-00F83089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C5350-5195-4610-8315-2B4FBC61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5223C-4C60-408B-B4ED-E7444274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BF1D0-0524-4788-A149-0902166C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9511F-349F-4021-B816-403FBB3F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33AB0-DB66-4E43-BEED-9CD09975470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D43C7-79C1-48DA-95D7-490CFB88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FE158-9A03-4870-96B5-52317375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00F25-7108-4F25-8FC0-7D72EB38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B7FF5-91CC-4CF1-96E3-C373A7A0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0E57D-91A1-4309-997F-7D09C00F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53D54-54A7-4992-B9A8-B7916F818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4391B-6366-442F-A9A6-B2821135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6CA9F-8875-4174-842B-775FDBF0E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0C174-2BDD-4DDD-8DA5-AE0784A0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C1997-352A-4713-BF34-69B41D28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1E71-17BF-48FA-9F1F-7E5270E46973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ounded Rectangle 13"/>
          <p:cNvSpPr/>
          <p:nvPr/>
        </p:nvSpPr>
        <p:spPr>
          <a:xfrm>
            <a:off x="247680" y="228600"/>
            <a:ext cx="942012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4"/>
          <p:cNvSpPr/>
          <p:nvPr/>
        </p:nvSpPr>
        <p:spPr>
          <a:xfrm>
            <a:off x="6551640" y="4203720"/>
            <a:ext cx="311616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8"/>
          <p:cNvSpPr/>
          <p:nvPr/>
        </p:nvSpPr>
        <p:spPr>
          <a:xfrm>
            <a:off x="2836800" y="4075200"/>
            <a:ext cx="600732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2"/>
          <p:cNvSpPr/>
          <p:nvPr/>
        </p:nvSpPr>
        <p:spPr>
          <a:xfrm>
            <a:off x="3063960" y="4087800"/>
            <a:ext cx="59245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6"/>
          <p:cNvSpPr/>
          <p:nvPr/>
        </p:nvSpPr>
        <p:spPr>
          <a:xfrm>
            <a:off x="6076800" y="4073400"/>
            <a:ext cx="358308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10"/>
          <p:cNvSpPr/>
          <p:nvPr/>
        </p:nvSpPr>
        <p:spPr>
          <a:xfrm>
            <a:off x="228600" y="4059360"/>
            <a:ext cx="945036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9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7A59-8E48-4EB8-89E3-9EC522D4C982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0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1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D46B-78F0-4A12-9FD5-B8A1255EACF3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49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2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8CAD-B7C4-491D-A195-DF496EC3F0E1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3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4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FCC7-15A1-404D-90B9-6A8FB6EA5EB6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97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5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AD11-58A9-4A18-93FE-9E6E7FC1F7A5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6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27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2864-25BC-46BC-A82D-B72303380377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545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8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8011-DBDE-4BBB-9F04-4B5E5F647314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9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0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08A7-B9A8-45FB-974D-D2F7FA5624D9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ounded Rectangle 11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5"/>
          <p:cNvGrpSpPr/>
          <p:nvPr/>
        </p:nvGrpSpPr>
        <p:grpSpPr>
          <a:xfrm>
            <a:off x="228600" y="714240"/>
            <a:ext cx="9450360" cy="1330560"/>
            <a:chOff x="228600" y="714240"/>
            <a:chExt cx="9450360" cy="1330560"/>
          </a:xfrm>
        </p:grpSpPr>
        <p:sp>
          <p:nvSpPr>
            <p:cNvPr id="593" name="Freeform 14"/>
            <p:cNvSpPr/>
            <p:nvPr/>
          </p:nvSpPr>
          <p:spPr>
            <a:xfrm>
              <a:off x="6550200" y="85860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8"/>
            <p:cNvSpPr/>
            <p:nvPr/>
          </p:nvSpPr>
          <p:spPr>
            <a:xfrm>
              <a:off x="2836800" y="73152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2"/>
            <p:cNvSpPr/>
            <p:nvPr/>
          </p:nvSpPr>
          <p:spPr>
            <a:xfrm>
              <a:off x="3063960" y="74268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6"/>
            <p:cNvSpPr/>
            <p:nvPr/>
          </p:nvSpPr>
          <p:spPr>
            <a:xfrm>
              <a:off x="6076800" y="73008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0"/>
            <p:cNvSpPr/>
            <p:nvPr/>
          </p:nvSpPr>
          <p:spPr>
            <a:xfrm>
              <a:off x="228600" y="71424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31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8CF0-1B2B-446C-9DBC-6970623033FB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32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33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6951-2D3F-4FFD-A42D-BBC009737804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ounded Rectangle 14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23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641" name="Freeform 14"/>
            <p:cNvSpPr/>
            <p:nvPr/>
          </p:nvSpPr>
          <p:spPr>
            <a:xfrm>
              <a:off x="6559560" y="860040"/>
              <a:ext cx="3119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8"/>
            <p:cNvSpPr/>
            <p:nvPr/>
          </p:nvSpPr>
          <p:spPr>
            <a:xfrm>
              <a:off x="2840040" y="731520"/>
              <a:ext cx="601524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2"/>
            <p:cNvSpPr/>
            <p:nvPr/>
          </p:nvSpPr>
          <p:spPr>
            <a:xfrm>
              <a:off x="3066840" y="742680"/>
              <a:ext cx="59310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6"/>
            <p:cNvSpPr/>
            <p:nvPr/>
          </p:nvSpPr>
          <p:spPr>
            <a:xfrm>
              <a:off x="6083280" y="730080"/>
              <a:ext cx="358920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8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34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3513-F551-42B5-98B6-7E49E119BD4F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5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36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E2C2-87B0-44AC-B3BD-2565CF241E2E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ounded Rectangle 14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8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689" name="Freeform 14"/>
            <p:cNvSpPr/>
            <p:nvPr/>
          </p:nvSpPr>
          <p:spPr>
            <a:xfrm>
              <a:off x="6559560" y="5499000"/>
              <a:ext cx="3119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8"/>
            <p:cNvSpPr/>
            <p:nvPr/>
          </p:nvSpPr>
          <p:spPr>
            <a:xfrm>
              <a:off x="2840040" y="5371920"/>
              <a:ext cx="601524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2"/>
            <p:cNvSpPr/>
            <p:nvPr/>
          </p:nvSpPr>
          <p:spPr>
            <a:xfrm>
              <a:off x="3066840" y="5383080"/>
              <a:ext cx="59310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6"/>
            <p:cNvSpPr/>
            <p:nvPr/>
          </p:nvSpPr>
          <p:spPr>
            <a:xfrm>
              <a:off x="6083280" y="5370480"/>
              <a:ext cx="35892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6CFA-2C78-4E5D-8546-8C0B19752579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C1BA-B573-45C7-B398-4A4A9802B440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737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0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E1F0-71E8-455A-8BD8-72F29D490237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41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42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0B6C-FAA4-4228-A4EA-DFA2AED7BADC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ounded Rectangle 20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4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785" name="Freeform 14"/>
            <p:cNvSpPr/>
            <p:nvPr/>
          </p:nvSpPr>
          <p:spPr>
            <a:xfrm>
              <a:off x="6559560" y="860040"/>
              <a:ext cx="3119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8"/>
            <p:cNvSpPr/>
            <p:nvPr/>
          </p:nvSpPr>
          <p:spPr>
            <a:xfrm>
              <a:off x="2840040" y="731520"/>
              <a:ext cx="601524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22"/>
            <p:cNvSpPr/>
            <p:nvPr/>
          </p:nvSpPr>
          <p:spPr>
            <a:xfrm>
              <a:off x="3066840" y="742680"/>
              <a:ext cx="59310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6"/>
            <p:cNvSpPr/>
            <p:nvPr/>
          </p:nvSpPr>
          <p:spPr>
            <a:xfrm>
              <a:off x="6083280" y="730080"/>
              <a:ext cx="358920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9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4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EDC5-59AF-4A2E-9A60-888B10C3FAED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4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4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1E5A-A55C-49A9-BE99-A8C6B79F8F69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rezentacja_podtytul"/>
          <p:cNvPicPr/>
          <p:nvPr/>
        </p:nvPicPr>
        <p:blipFill>
          <a:blip r:embed="rId2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639800" y="1600200"/>
            <a:ext cx="77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84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78D0-294B-4117-A501-7168F7225E0B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Komponent Central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4612-6A7A-41A2-82F3-FBE5DE44CD7D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2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prezentacja_podtytul"/>
          <p:cNvPicPr/>
          <p:nvPr/>
        </p:nvPicPr>
        <p:blipFill>
          <a:blip r:embed="rId5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4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prezentacja_tytul"/>
          <p:cNvPicPr/>
          <p:nvPr/>
        </p:nvPicPr>
        <p:blipFill>
          <a:blip r:embed="rId5"/>
          <a:stretch/>
        </p:blipFill>
        <p:spPr>
          <a:xfrm>
            <a:off x="0" y="1440"/>
            <a:ext cx="9906120" cy="6855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znak_KAPITAL_LUDZKI"/>
          <p:cNvPicPr/>
          <p:nvPr/>
        </p:nvPicPr>
        <p:blipFill>
          <a:blip r:embed="rId6"/>
          <a:stretch/>
        </p:blipFill>
        <p:spPr>
          <a:xfrm>
            <a:off x="2143080" y="4716360"/>
            <a:ext cx="3457800" cy="1683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20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3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ed Rectangle 15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9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306" name="Freeform 14"/>
            <p:cNvSpPr/>
            <p:nvPr/>
          </p:nvSpPr>
          <p:spPr>
            <a:xfrm>
              <a:off x="6559560" y="5499000"/>
              <a:ext cx="3119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2840040" y="5371920"/>
              <a:ext cx="601524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2"/>
            <p:cNvSpPr/>
            <p:nvPr/>
          </p:nvSpPr>
          <p:spPr>
            <a:xfrm>
              <a:off x="3066840" y="5383080"/>
              <a:ext cx="59310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"/>
            <p:cNvSpPr/>
            <p:nvPr/>
          </p:nvSpPr>
          <p:spPr>
            <a:xfrm>
              <a:off x="6083280" y="5370480"/>
              <a:ext cx="35892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8EA6-040F-4279-8263-891FDD9302AC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1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1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5700-FAA8-49A9-A9D0-AAB74BB4653B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354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6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4228-C583-43E3-AC90-4D1F621C3968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17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18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00CD-2148-499E-BC52-13BC482BD793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9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9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9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9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5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5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5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5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72880" y="259920"/>
            <a:ext cx="8855280" cy="597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Zasady kontraktowania </a:t>
            </a: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świadczeń opieki zdrowotnej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pl-PL" sz="2400" spc="-1" strike="noStrike" u="sng">
                <a:solidFill>
                  <a:srgbClr val="ffffff"/>
                </a:solidFill>
                <a:uFillTx/>
                <a:latin typeface="Candara"/>
              </a:rPr>
              <a:t>w rodzaju</a:t>
            </a:r>
            <a:r>
              <a:rPr b="0" lang="pl-PL" sz="2400" spc="-1" strike="noStrike">
                <a:solidFill>
                  <a:srgbClr val="ffffff"/>
                </a:solidFill>
                <a:latin typeface="Candara"/>
              </a:rPr>
              <a:t>: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br>
              <a:rPr sz="2400"/>
            </a:br>
            <a:br>
              <a:rPr sz="2200"/>
            </a:br>
            <a:br>
              <a:rPr sz="22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- </a:t>
            </a:r>
            <a:r>
              <a:rPr b="0" lang="pl-PL" sz="4000" spc="-1" strike="noStrike">
                <a:solidFill>
                  <a:srgbClr val="ff0000"/>
                </a:solidFill>
                <a:latin typeface="Candara"/>
              </a:rPr>
              <a:t>aspekty merytoryczne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ymagane umowy podwykonawcze na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862a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badania diagnostyczn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862a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badania laboratoryjne w tym mikrobiologiczn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-   transport sanitarny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272880" y="2205000"/>
            <a:ext cx="9360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Świadczenia gwarantowane udzielane w </a:t>
            </a:r>
            <a:r>
              <a:rPr b="0" lang="pl-PL" sz="2400" spc="-1" strike="noStrike" u="sng">
                <a:solidFill>
                  <a:srgbClr val="073e87"/>
                </a:solidFill>
                <a:uFillTx/>
                <a:latin typeface="Candara"/>
              </a:rPr>
              <a:t>warunkach domowych 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realizowane są w ramach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espołu długoterminowej opieki domowej dla pacjentów wentylowanych mechanicznie,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espołu długoterminowej opieki domowej dla dzieci wentylowanych mechanicznie,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pielęgniarskiej opieki długoterminowej domowej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7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988B-B7C0-4D1B-ABAC-D44AD1BB1339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495000" y="1599840"/>
            <a:ext cx="843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4a8a4"/>
                </a:solidFill>
                <a:latin typeface="Candara"/>
              </a:rPr>
              <a:t>Wymagane warunki do realizacji gwarantowanych świadczeń opieki zdrowotnej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Załącznik nr 4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arunki realizacji świadczeń gwarantowanych </a:t>
            </a:r>
            <a:br>
              <a:rPr sz="2800"/>
            </a:b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z zakresu świadczeń pielęgnacyjnych i opiekuńczych w ramach opieki długoterminowej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0" name="Symbol zastępczy numeru slajdu 4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044B-EA5C-4C60-8F0B-154DF797C400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495000" y="1599840"/>
            <a:ext cx="843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ymagania dotyczą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liczby i kwalifikacji personelu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sprzętu medycznego i pomocniczego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arunków lokalowych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innych warunków udzielania świadczeń gwarantowanych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3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1D93-1353-4923-8344-9D9F03345EF1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b87d6"/>
                </a:solidFill>
                <a:latin typeface="Times New Roman"/>
              </a:rPr>
              <a:t>Świadczenia w zakładzie pielęgnacyjno-opiekuńczym/opiekuńczo-leczniczym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77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513C-8D04-4113-BCA0-44016C70314F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"/>
          <p:cNvGraphicFramePr/>
          <p:nvPr/>
        </p:nvGraphicFramePr>
        <p:xfrm>
          <a:off x="849240" y="1628640"/>
          <a:ext cx="7991640" cy="4464360"/>
        </p:xfrm>
        <a:graphic>
          <a:graphicData uri="http://schemas.openxmlformats.org/drawingml/2006/table">
            <a:tbl>
              <a:tblPr/>
              <a:tblGrid>
                <a:gridCol w="2781360"/>
                <a:gridCol w="5210280"/>
              </a:tblGrid>
              <a:tr h="879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erson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642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ekar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etat przeliczeniowy na 35 łóżek (równoważnik 1 etatu przeliczeniowego na 35 łóżek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fizjoterape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 etaty na 35 łóżek (równoważnik 2 etatów przeliczeniowych na 35 łóżek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sycholodz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łóże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ogopedz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terapeuci zajęcio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pacjentów uczestniczących w terap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opiekunowie medycz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 - dopuszcza się możliwość udzielania świadcze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128520" y="1484280"/>
            <a:ext cx="9577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07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b87d6"/>
                </a:solidFill>
                <a:latin typeface="Candara"/>
              </a:rPr>
              <a:t>Personel – wymagania, lekarze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Przy zakresie obowiązków obejmującym badanie pacjentów nie mniej niż 2 razy w tygodniu i porady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na wezwanie w razie potrzeby – udziela świadczeń w łącznym wymiarze </a:t>
            </a:r>
            <a:r>
              <a:rPr b="1" lang="pl-PL" sz="1600" spc="-1" strike="noStrike" u="sng">
                <a:solidFill>
                  <a:srgbClr val="ff0000"/>
                </a:solidFill>
                <a:uFillTx/>
                <a:latin typeface="Candara"/>
              </a:rPr>
              <a:t>1 etatu przeliczeniowego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ff0000"/>
                </a:solidFill>
                <a:uFillTx/>
                <a:latin typeface="Candara"/>
              </a:rPr>
              <a:t>na 35 łóżek (równoważnik 1 etatu przeliczeniowego na 35 łóżek</a:t>
            </a:r>
            <a:r>
              <a:rPr b="1" lang="pl-PL" sz="1600" spc="-1" strike="noStrike">
                <a:solidFill>
                  <a:srgbClr val="ff0000"/>
                </a:solidFill>
                <a:latin typeface="Candara"/>
              </a:rPr>
              <a:t>)</a:t>
            </a: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, przy czym w wymiarze tym </a:t>
            </a:r>
            <a:r>
              <a:rPr b="0" lang="pl-PL" sz="1600" spc="-1" strike="noStrike" u="sng">
                <a:solidFill>
                  <a:srgbClr val="073e87"/>
                </a:solidFill>
                <a:uFillTx/>
                <a:latin typeface="Candara"/>
              </a:rPr>
              <a:t>uwzględnia się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73e87"/>
                </a:solidFill>
                <a:uFillTx/>
                <a:latin typeface="Candara"/>
              </a:rPr>
              <a:t>cząstkowe etaty przeliczeniowe lekarza specjalisty w dziedzinie: chorób wewnętrznych lub medycyny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73e87"/>
                </a:solidFill>
                <a:uFillTx/>
                <a:latin typeface="Candara"/>
              </a:rPr>
              <a:t>rodzinnej, lub medycyny ogólnej, lub chirurgii ogólnej, lub geriatrii, lub gerontologii</a:t>
            </a: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 oraz </a:t>
            </a:r>
            <a:r>
              <a:rPr b="0" lang="pl-PL" sz="1600" spc="-1" strike="noStrike" u="sng">
                <a:solidFill>
                  <a:srgbClr val="073e87"/>
                </a:solidFill>
                <a:uFillTx/>
                <a:latin typeface="Candara"/>
              </a:rPr>
              <a:t>zapewnia się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73e87"/>
                </a:solidFill>
                <a:uFillTx/>
                <a:latin typeface="Candara"/>
              </a:rPr>
              <a:t>konsultację specjalistyczną przez co najmniej lekarza specjalistę psychiatrii oraz neurologii lub cząstkowe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73e87"/>
                </a:solidFill>
                <a:uFillTx/>
                <a:latin typeface="Candara"/>
              </a:rPr>
              <a:t>etaty przeliczeniowe</a:t>
            </a: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: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1) lekarza ze specjalizacją I stopnia w dziedzinie: chorób wewnętrznych lub medycyny ogólnej, lub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geriatrii, neurologii, psychiatrii, lub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2) lekarza w trakcie specjalizacji z dziedziny: chorób wewnętrznych lub medycyny rodzinnej, lub geriatrii,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neurologii, psychiatrii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(aktualna ocena pacjenta, dokonywana nie mniej niż dwa razy w tygodniu, potwierdzana jest datą, pieczątką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i podpisem osoby przeprowadzającej badania kontrolne),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1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2DF1-B7B0-43E0-B019-C728214CD8D5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495360" y="1341000"/>
            <a:ext cx="825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b87d6"/>
                </a:solidFill>
                <a:latin typeface="Candara"/>
              </a:rPr>
              <a:t>Personel – wymagania, pielęgniarki : kwalifikacje</a:t>
            </a:r>
            <a:endParaRPr b="0" lang="en-US" sz="23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Z ukończoną specjalizacją, kursem kwalifikacyjnym lub w trakcie odbywania tych specjalizacji lub kursów: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1) w dziedzinie opieki długoterminowej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2) w dziedzinie pielęgniarstwa przewlekle chorych i niepełnosprawnych,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3) w dziedzinie pielęgniarstwa zachowawczego,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4) w dziedzinie pielęgniarstwa rodzinnego,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5) w dziedzinie pielęgniarstwa środowiskowego,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6) w dziedzinie pielęgniarstwa środowiskowo-rodzinnego,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7) w dziedzinie pielęgniarstwa geriatrycznego,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8) w dziedzinie pielęgniarstwa opieki paliatywnej,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9) specjalistycznych w zakresie opieki paliatywnej, lub w trakcie odbywania tych kursów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73e87"/>
                </a:solidFill>
                <a:latin typeface="Candara"/>
              </a:rPr>
              <a:t>– </a:t>
            </a:r>
            <a:r>
              <a:rPr b="1" lang="pl-PL" sz="1800" spc="-1" strike="noStrike">
                <a:solidFill>
                  <a:srgbClr val="ff0000"/>
                </a:solidFill>
                <a:latin typeface="Candara"/>
              </a:rPr>
              <a:t>łącznie 25% czasu pracy ogółu pielęgniarek udzielających świadczeń u danego świadczeniodawcy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4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7130-3689-49F7-B16D-8237D892251D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95360" y="1341000"/>
            <a:ext cx="825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062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b87d6"/>
                </a:solidFill>
                <a:latin typeface="Candara"/>
              </a:rPr>
              <a:t>Personel pozostały – wymagania, kwalifikacje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osoba, która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a) rozpoczęła po dniu 30 września 2012 r. studia wyższe z zakresu fizjoterapii obejmujące co najmniej 2435 godzin kształcenia w zakresie fizjoterapii i uzyskała tytuł licencjata lub dodatkowo co najmniej 1440 godzin kształcenia w zakresie fizjoterapii i uzyskała tytuł magistra, lub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b) rozpoczęła po dniu 31 grudnia 1997 r. studia wyższe na kierunku fizjoterapia zgodnie ze standardami kształcenia określonymi w odrębnych przepisach i uzyskała tytuł licencjata lub magistra na tym kierunku, lub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c) rozpoczęła przed dniem 1 stycznia 1998 r. studia wyższe na kierunku rehabilitacja ruchowa i uzyskała tytuł magistra na tym kierunku, lub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d) rozpoczęła przed dniem 1 stycznia 1998 r. studia wyższe w Akademii Wychowania Fizycznego i uzyskała tytuł magistra oraz ukończyła specjalizację I lub II stopnia w dziedzinie rehabilitacji ruchowej, lub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e) rozpoczęła przed dniem 1 stycznia 1980 r. studia wyższe na kierunku wychowanie fizyczne i uzyskała tytuł magistra na tym kierunku oraz ukończyła w ramach studiów dwuletnią specjalizację z zakresu gimnastyki leczniczej lub rehabilitacji ruchowej, lub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f) rozpoczęła przed dniem 1 stycznia 1980 r. studia wyższe na kierunku wychowanie fizyczne i uzyskała tytuł magistra na tym kierunku oraz ukończyła trzymiesięczny kurs specjalizacyjny z rehabilitacji, lub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g) ukończyła szkołę policealną publiczną lub niepubliczną o uprawnieniach szkoły publicznej i uzyskała tytuł zawodowy technik fizjoterapii, zwana dalej „osobą prowadzącą fizjoterapię”;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– </a:t>
            </a:r>
            <a:r>
              <a:rPr b="1" lang="pl-PL" sz="1400" spc="-1" strike="noStrike" u="sng">
                <a:solidFill>
                  <a:srgbClr val="ff0000"/>
                </a:solidFill>
                <a:uFillTx/>
                <a:latin typeface="Candara"/>
              </a:rPr>
              <a:t>udziela świadczeń w łącznym wymiarze 2 etatów przeliczeniowych na 35 łóżek (równoważnik 2 etatów przeliczeniowych na 35 łóżek),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–– </a:t>
            </a:r>
            <a:r>
              <a:rPr b="1" lang="pl-PL" sz="1400" spc="-1" strike="noStrike">
                <a:solidFill>
                  <a:srgbClr val="073e87"/>
                </a:solidFill>
                <a:latin typeface="Candara"/>
              </a:rPr>
              <a:t>w zakładach opiekuńczych dla świadczeniobiorców będących w stanie wegetatywnym (którzy nie są </a:t>
            </a:r>
            <a:br>
              <a:rPr sz="1400"/>
            </a:br>
            <a:r>
              <a:rPr b="1" lang="pl-PL" sz="1400" spc="-1" strike="noStrike">
                <a:solidFill>
                  <a:srgbClr val="073e87"/>
                </a:solidFill>
                <a:latin typeface="Candara"/>
              </a:rPr>
              <a:t>w stanie przełykać i są karmieni przez zgłębnik lub gastrostomię lub jejunostomię lub pozajelitowo),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73e87"/>
                </a:solidFill>
                <a:latin typeface="Candara"/>
              </a:rPr>
              <a:t>a którzy w ocenie skalą Barthel otrzymali „0” punktów – udziela świadczeń w łącznym wymiarze ¼ etatu przeliczeniowego na 1 łóżko (równoważnik ¼ etatu przeliczeniowego na 1 łóżko);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7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3C84-5723-4812-BA9A-1628F9E367BD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95360" y="1341000"/>
            <a:ext cx="825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07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b87d6"/>
                </a:solidFill>
                <a:latin typeface="Candara"/>
              </a:rPr>
              <a:t>Personel pozostały – wymagania, kwalifikacj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b87d6"/>
                </a:solidFill>
                <a:latin typeface="Candara"/>
              </a:rPr>
              <a:t>osoba, która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psycholog lub psycholog posiadający tytuł specjalisty w dziedzinie psychologii klinicznej – udziela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świadczeń w łącznym wymiarze 1/2 etatu przeliczeniowego na 35 łóżek;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osoba, która: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a) rozpoczęła po dniu 30 września 2012 r. i ukończyła studia wyższe w zakresie logopedii, obejmujące co najmniej 800 godzin kształcenia w zakresie logopedii i uzyskała tytuł magistra, lub ukończyła studia wyższe i uzyskała tytuł magistra oraz ukończyła studia podyplomowe z logopedii obejmujące co najmniej 600 godzin kształcenia w zakresie logopedii, lub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b) rozpoczęła po dniu 31 grudnia 1998 r. i ukończyła studia wyższe na kierunku albo w specjalności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logopedia obejmujące co najmniej 800 godzin kształcenia w zakresie logopedii i uzyskała tytuł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licencjata lub magistra na tym kierunku, lub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c) rozpoczęła po dniu 31 grudnia 1998 r. i ukończyła studia wyższe i uzyskała tytuł magistra oraz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ukończyła studia podyplomowe z logopedii obejmujące co najmniej 600 godzin kształcenia w zakresie logopedii, lub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d) rozpoczęła przed dniem 31 grudnia 1998 r. i ukończyła studia wyższe i uzyskała tytuł magistra oraz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ukończyła studia podyplomowe z logopedii, zwana dalej „logopedą”;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377B-2A0D-48EE-904F-DA8D75FE495F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0000"/>
                </a:solidFill>
                <a:latin typeface="Candara"/>
              </a:rPr>
              <a:t>Wymagania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1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91AD-AA68-4DFA-A6CC-DAC0668848AF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495360" y="1341000"/>
            <a:ext cx="825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11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b87d6"/>
                </a:solidFill>
                <a:latin typeface="Candara"/>
              </a:rPr>
              <a:t>Personel pozostały – wymagania, kwalifikacj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b87d6"/>
                </a:solidFill>
                <a:latin typeface="Candara"/>
              </a:rPr>
              <a:t>osoba, która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a) ukończyła studia wyższe na kierunku lub w specjalności terapia zajęciowa, obejmujące co najmniej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3000 godzin kształcenia, w tym 2000 godzin w grupie treści podstawowych i kierunkowych obejmujących wiedzę z zakresu teorii i technik terapeutycznych i uzyskała tytuł licencjata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b) ukończyła szkołę policealną publiczną lub niepubliczną o uprawnieniach szkoły publicznej i uzyskała tytuł zawodowy terapeuty zajęciowego lub dyplom potwierdzający kwalifikacje zawodowe w zawodzie terapeuty zajęciowego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c) ukończyła przed dniem wejścia w życie rozporządzenia szkołę policealną publiczną lub niepubliczną </a:t>
            </a:r>
            <a:br>
              <a:rPr sz="1500"/>
            </a:b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o uprawnieniach szkoły publicznej i uzyskała tytuł zawodowy w zawodzie instruktor terapii zajęciowej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d) ukończyła przed dniem 1 października 2011 r. studia wyższe w specjalności terapia zajęciowa, obejmujące co najmniej 1665 godzin kształcenia przygotowującego do wykonywania zawodu terapeuty zajęciowego i uzyskała tytuł licencjata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e) rozpoczęła po dniu 30 sierpnia 2012 r. studia wyższe w zakresie terapii zajęciowej, obejmujące co najmniej 2000 godzin w grupie treści podstawowych i kierunkowych obejmujących wiedzę z zakresu teorii i technik terapeutycznych i uzyskała co najmniej tytuł licencjata, zwana dalej „terapeutą zajęciowym”;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– </a:t>
            </a:r>
            <a:r>
              <a:rPr b="1" lang="pl-PL" sz="1500" spc="-1" strike="noStrike" u="sng">
                <a:solidFill>
                  <a:srgbClr val="073e87"/>
                </a:solidFill>
                <a:uFillTx/>
                <a:latin typeface="Candara"/>
              </a:rPr>
              <a:t>udziela świadczeń w łącznym wymiarze 1/2 etatu przeliczeniowego na 35 pacjentów uczestniczących w terapii w ciągu tygodnia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3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5318-A0BD-48E0-AB29-383C2059AADB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495360" y="1341000"/>
            <a:ext cx="825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b87d6"/>
                </a:solidFill>
                <a:latin typeface="Candara"/>
              </a:rPr>
              <a:t>Personel pozostały – wymagania, kwalifikacj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dopuszcza się możliwość realizacji świadczeń przez osobę, która: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a) rozpoczęła przed dniem 1 września 2012 r. i ukończyła zasadniczą szkołę zawodową publiczną lub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niepubliczną o uprawnieniach szkoły publicznej lub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b) rozpoczęła po dniu 31 sierpnia 2012 r. i ukończyła kwalifikacyjny kurs zawodowy lub ukończyła szkołę policealną publiczną lub niepubliczną o uprawnieniach szkoły publicznej i uzyskała dyplom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potwierdzający kwalifikacje zawodowe w zawodzie opiekun medyczny, posiadająca kwalifikacje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do wykonywania czynności w zakresie podstawowej pielęgnacji chorych i osób niesamodzielnych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zwaną dalej „opiekunem medycznym”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6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6D0D-5B59-49F6-9CB7-BBE3F3227258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98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0F87-02C5-40BF-A6D8-B8E882028095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9" name=""/>
          <p:cNvGraphicFramePr/>
          <p:nvPr/>
        </p:nvGraphicFramePr>
        <p:xfrm>
          <a:off x="415800" y="907920"/>
          <a:ext cx="9001080" cy="4721400"/>
        </p:xfrm>
        <a:graphic>
          <a:graphicData uri="http://schemas.openxmlformats.org/drawingml/2006/table">
            <a:tbl>
              <a:tblPr/>
              <a:tblGrid>
                <a:gridCol w="3589560"/>
                <a:gridCol w="2728800"/>
                <a:gridCol w="2682720"/>
              </a:tblGrid>
              <a:tr h="3333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uwag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65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łóżka szpitalne o regulowanej wysokości i wyposażone w ruchome barierki zabezpieczające przed wypadnięciem lub zawierające oprzyrządowanie do rehabilitacj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g wykazanej liczby łóżek w oświadczeni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zapobiegający powstawaniu odleżyn: materace przeciwodleżynowe, poduszki, podpórki, wałki,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ułatwiający pielęgnację świadczeniobiorcy: zintegrowany system do higieny ciała, podnośnik, parawany, pasy ślizgowe,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rehabilitacyjnego: UGUL, cykloergometr, rotory, materace, drabinki, poręcz do nauki chodzenia, zestaw do elektroterapii z osprzętem,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terapii zajęciowej: stoły do terapii zajęciowej, przybory do malowania i wyklejania, sprzęt do muzykoterapii, sprzęt do gier i zabaw, tablice do pisania, sprzęt audiowizualny, system haseł obrazkowo-tekstowych, sprzęt do nauki czynności życia codziennego,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oncentrator tlenu lub inne źródło tlenu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sak elektryczny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inhalator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glukometr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y do pomiaru ciśnienia tętniczego krw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do reanimacj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ule, laski, balkoniki, chodziki, wózki inwalidzkie, również z podparciem głow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ompy infuzyjn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tetoskop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ff0000"/>
                          </a:solidFill>
                          <a:latin typeface="Czcionka tekstu podstawowego"/>
                        </a:rPr>
                        <a:t>pulsoksymet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ff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ff0000"/>
                          </a:solidFill>
                          <a:latin typeface="Czcionka tekstu podstawowego"/>
                        </a:rPr>
                        <a:t>dodatkowy sprzęt medyczny i pomocniczy dla świadczeniobiorców w stanie wegetatywnym, którzy w ocenie skalą Barthel otrzymali „0” punktów, znajdujący się w miejscu udzielania świadczeń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ff0000"/>
                          </a:solidFill>
                          <a:latin typeface="Czcionka tekstu podstawowego"/>
                        </a:rPr>
                        <a:t>zestaw z jednorazowym sprzętem do pielęgnacji tracheostomii, gastrostomii, konikotomi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ff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ff0000"/>
                          </a:solidFill>
                          <a:latin typeface="Czcionka tekstu podstawowego"/>
                        </a:rPr>
                        <a:t>samorozprężalny worek oddechowy z zastawką jednokierunkową i maską twarzow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ff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 EK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budynku lub zespole budynków oznaczonych tym samym adresem, w którym lub w których jest zlokalizowane miejsce udzielania świadczeń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992160" y="2771640"/>
          <a:ext cx="7921800" cy="2025720"/>
        </p:xfrm>
        <a:graphic>
          <a:graphicData uri="http://schemas.openxmlformats.org/drawingml/2006/table">
            <a:tbl>
              <a:tblPr/>
              <a:tblGrid>
                <a:gridCol w="7921800"/>
              </a:tblGrid>
              <a:tr h="90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arunki lokal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) gabinet rehabilitacyjny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) gabinet do prowadzenia psychoterapii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3) gabinet terapii zajęciowej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4) sala dziennego pobytu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 txBox="1"/>
          <p:nvPr/>
        </p:nvSpPr>
        <p:spPr>
          <a:xfrm>
            <a:off x="944280" y="2349000"/>
            <a:ext cx="80262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b87d6"/>
                </a:solidFill>
                <a:latin typeface="Times New Roman"/>
              </a:rPr>
              <a:t>Świadczenia w zakładzie pielęgnacyjno-opiekuńczym/opiekuńczo-leczniczym dla dzieci i młodzieży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5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05A0-CE0D-4533-A732-A428DA365DAC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6" name=""/>
          <p:cNvGraphicFramePr/>
          <p:nvPr/>
        </p:nvGraphicFramePr>
        <p:xfrm>
          <a:off x="849240" y="1268280"/>
          <a:ext cx="7991640" cy="3889440"/>
        </p:xfrm>
        <a:graphic>
          <a:graphicData uri="http://schemas.openxmlformats.org/drawingml/2006/table">
            <a:tbl>
              <a:tblPr/>
              <a:tblGrid>
                <a:gridCol w="2781360"/>
                <a:gridCol w="5210280"/>
              </a:tblGrid>
              <a:tr h="766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erson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 dla dzieci i młodzież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ekar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etat przeliczeniowy na 35 łóżek (równoważnik 1 etatu przeliczeniowego na 35 łóżek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fizjoterape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 etaty przeliczeniowe na 35 łóżek (równoważnik 2 etatów przeliczeniowych na 35 łóżek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sycholodz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łóże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ogopedz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terapeuci zajęcio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pacjentów uczestniczących w terap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opiekunowie medycz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 - dopuszcza się możliwość udzielania świadcze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8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0EA8-70AF-443B-80A6-A5BC467F1272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9" name=""/>
          <p:cNvGraphicFramePr/>
          <p:nvPr/>
        </p:nvGraphicFramePr>
        <p:xfrm>
          <a:off x="415800" y="907920"/>
          <a:ext cx="9001080" cy="4111920"/>
        </p:xfrm>
        <a:graphic>
          <a:graphicData uri="http://schemas.openxmlformats.org/drawingml/2006/table">
            <a:tbl>
              <a:tblPr/>
              <a:tblGrid>
                <a:gridCol w="3589560"/>
                <a:gridCol w="2728800"/>
                <a:gridCol w="2682720"/>
              </a:tblGrid>
              <a:tr h="3333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 dla dzieci i młodzież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uwag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65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łóżka szpitalne o regulowanej wysokości i wyposażone w ruchome barierki zabezpieczające przed wypadnięciem lub zawierające oprzyrządowanie do rehabilitacj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g wykazanej liczby łóżek w oświadczeni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zapobiegający powstawaniu odleżyn: materace przeciwodleżynowe, poduszki, podpórki, wałki,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ułatwiający pielęgnację świadczeniobiorcy: zintegrowany system do higieny ciała, podnośnik, parawany, pasy ślizgowe,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rehabilitacyjnego: UGUL, cykloergometr, rotory, materace, drabinki, poręcz do nauki chodzenia, zestaw do elektroterapii z osprzętem,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terapii zajęciowej: stoły do terapii zajęciowej, przybory do malowania i wyklejania, sprzęt do muzykoterapii, sprzęt do gier i zabaw, tablice do pisania, sprzęt audiowizualny, system haseł obrazkowo-tekstowych, sprzęt do nauki czynności życia codziennego,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oncentrator tlenu lub inne źródło tlenu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sak elektryczny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inhalator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glukometr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y do pomiaru ciśnienia tętniczego krw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do reanimacj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ule, laski, balkoniki, chodziki, wózki inwalidzkie, również z podparciem głow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ompy infuzyjn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tetoskop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 EK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budynku lub zespole budynków oznaczonych tym samym adresem, w którym lub w których jest zlokalizowane miejsce udzielania świadczeń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911" name=""/>
          <p:cNvGraphicFramePr/>
          <p:nvPr/>
        </p:nvGraphicFramePr>
        <p:xfrm>
          <a:off x="992160" y="2771640"/>
          <a:ext cx="7921800" cy="2025720"/>
        </p:xfrm>
        <a:graphic>
          <a:graphicData uri="http://schemas.openxmlformats.org/drawingml/2006/table">
            <a:tbl>
              <a:tblPr/>
              <a:tblGrid>
                <a:gridCol w="7921800"/>
              </a:tblGrid>
              <a:tr h="90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arunki lokal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) gabinet rehabilitacyjny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) gabinet do prowadzenia psychoterapii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3) gabinet terapii zajęciowej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4) sala dziennego pobytu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b87d6"/>
                </a:solidFill>
                <a:latin typeface="Times New Roman"/>
              </a:rPr>
              <a:t>Świadczenia w zakładzie pielęgnacyjno-opiekuńczym/opiekuńczo-leczniczym </a:t>
            </a:r>
            <a:br>
              <a:rPr sz="3200"/>
            </a:br>
            <a:r>
              <a:rPr b="0" lang="pl-PL" sz="3200" spc="-1" strike="noStrike">
                <a:solidFill>
                  <a:srgbClr val="0b87d6"/>
                </a:solidFill>
                <a:latin typeface="Times New Roman"/>
              </a:rPr>
              <a:t>dla pacjentów wentylowanych mechanicznie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15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399F-0F49-435D-B576-589AF8033396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6" name=""/>
          <p:cNvGraphicFramePr/>
          <p:nvPr/>
        </p:nvGraphicFramePr>
        <p:xfrm>
          <a:off x="849240" y="1268280"/>
          <a:ext cx="7991640" cy="3889440"/>
        </p:xfrm>
        <a:graphic>
          <a:graphicData uri="http://schemas.openxmlformats.org/drawingml/2006/table">
            <a:tbl>
              <a:tblPr/>
              <a:tblGrid>
                <a:gridCol w="2781360"/>
                <a:gridCol w="5210280"/>
              </a:tblGrid>
              <a:tr h="766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erso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 dla pacjentów wentylowanych mechaniczn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ekar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8 etatu przeliczeniowego na 1 łóżko (równoważnik 1/8 etatu przeliczeniowego </a:t>
                      </a:r>
                      <a:br>
                        <a:rPr sz="1100"/>
                      </a:b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a 1 łóżko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fizjoterape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4 etatu przeliczeniowego na 1 łóżko (równoważnik 1/4 etatu przeliczeniowego               na 1 łóżko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sycholodz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łóże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ogopedz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terapeuci zajęcio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pacjentów uczestniczących w terap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opiekunowie medycz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 - dopuszcza się możliwość udzielania świadcze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944280" y="1844280"/>
            <a:ext cx="8026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13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3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Obwieszczenie Ministra Zdrowia z dnia 22 września 2015 r. w sprawie ogłoszenia jednolitego tekstu rozporządzenia Ministra Zdrowia </a:t>
            </a:r>
            <a:br>
              <a:rPr sz="2000"/>
            </a:b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w sprawie świadczeń gwarantowanych z zakresu świadczeń pielęgnacyjnych i opiekuńczych w ramach opieki długoterminowej </a:t>
            </a:r>
            <a:br>
              <a:rPr sz="2000"/>
            </a:b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(Dz. U. z 2015 r., Nr  1658 )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spcBef>
                <a:spcPts val="499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spcBef>
                <a:spcPts val="601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4a8a4"/>
                </a:solidFill>
                <a:latin typeface="Candara"/>
              </a:rPr>
              <a:t>wykaz gwarantowanych świadczeń opieki zdrowotnej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spcBef>
                <a:spcPts val="601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4a8a4"/>
                </a:solidFill>
                <a:latin typeface="Candara"/>
              </a:rPr>
              <a:t>wymagane warunki do ich realizacji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4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5771-4EC8-4B4F-BEC9-5343B447971D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18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81F7-FC51-4755-B67A-8486C70EA737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9" name=""/>
          <p:cNvGraphicFramePr/>
          <p:nvPr/>
        </p:nvGraphicFramePr>
        <p:xfrm>
          <a:off x="488880" y="981000"/>
          <a:ext cx="8856720" cy="4713480"/>
        </p:xfrm>
        <a:graphic>
          <a:graphicData uri="http://schemas.openxmlformats.org/drawingml/2006/table">
            <a:tbl>
              <a:tblPr/>
              <a:tblGrid>
                <a:gridCol w="3532320"/>
                <a:gridCol w="2684520"/>
                <a:gridCol w="2639880"/>
              </a:tblGrid>
              <a:tr h="3859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 dorosłych, dzieci wentylowanych mechanicznie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uwag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078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łóżka szpitalne o regulowanej wysokości i wyposażone w ruchome barierki zabezpieczające przed wypadnięciem lub zawierające oprzyrządowanie do rehabilitacj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g wykazanej liczby łóżek w oświadczeni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zapobiegający powstawaniu odleżyn: materace przeciwodleżynowe, poduszki, podpórki, wałki,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ułatwiający pielęgnację świadczeniobiorcy: zintegrowany system do higieny ciała, podnośnik, parawany, pasy ślizgowe,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rehabilitacyjnego: UGUL, cykloergometr, rotory, materace, drabinki, poręcz do nauki chodzenia, zestaw do elektroterapii z osprzętem,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terapii zajęciowej: stoły do terapii zajęciowej, przybory do malowania i wyklejania, sprzęt do muzykoterapii, sprzęt do gier i zabaw, tablice do pisania, sprzęt audiowizualny, system haseł obrazkowo-tekstowych, sprzęt do nauki czynności życia codziennego,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oncentrator tlenu lub inne źródło tlenu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inhalator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glukometr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y do pomiaru ciśnienia tętniczego krw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do reanimacj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ule, laski, balkoniki, chodziki, wózki inwalidzkie, również z podparciem głow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ompy infuzyjn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tetoskop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respirator  wyposażony w: – akumulator pozwalający na: –  swobodne korzystanie z wózka inwalidzkiego, – podtrzymanie czynności respiratora do 4 godzin, – filtry powietrza w układzie, – komplet parametrów nastawnych, – 2 alarmy: rozłączenia układu i nadmiernego ciśnienia w drogach oddechowyc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dla każdego każdego świadczeniobiorc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, stanowiący własność świadczeniodawc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sak elektryczny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dla każdego świadczeniobiorcy z dodatkowym wyposażeniem jednorazowym (cewniki, łączniki) oraz ssak rezerwow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defibrylato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ulsoksymet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z jednorazowym sprzętem do pielęgnacji tracheostomii, gastrostomi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 EK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budynku lub zespole budynków oznaczonych tym samym adresem, w którym lub w których jest zlokalizowane miejsce udzielania świadczeń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921" name=""/>
          <p:cNvGraphicFramePr/>
          <p:nvPr/>
        </p:nvGraphicFramePr>
        <p:xfrm>
          <a:off x="920880" y="2143080"/>
          <a:ext cx="7993080" cy="294156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676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arunki lokal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230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) sale 1-2 łóżkowe z bezpośrednim sąsiedztwem łazienki i dostępem do wyłącznika światła dla pacjenta; w zakładach opiekuńczych dla dzieci i młodzieży do ukończenia 18. roku życia: sale 1-2 łóżkowe z zapewnieniem dostępu do łóżka z trzech stron i swobodnego korzystania ze sprzętu pielęgnacyjnego, rehabilitacyjnego i wspomagającego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) gabinet lekarski i zabiegowo-pielęgniarski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3) gabinet rehabilitacyjny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4) akumulatorowe źródło światła aktywowane w przypadku awarii prądu, alternatywne źródło zasilania elektrycznego – generator prądu, słyszalny alarm respiratora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Świadczenia w zakładzie pielęgnacyjno-opiekuńczym/opiekuńczo-leczniczym dla dzieci wentylowanych mechanicznie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25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0198-A902-4292-8DAA-9B87BBEDE989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6" name=""/>
          <p:cNvGraphicFramePr/>
          <p:nvPr/>
        </p:nvGraphicFramePr>
        <p:xfrm>
          <a:off x="849240" y="1268280"/>
          <a:ext cx="7991640" cy="3889440"/>
        </p:xfrm>
        <a:graphic>
          <a:graphicData uri="http://schemas.openxmlformats.org/drawingml/2006/table">
            <a:tbl>
              <a:tblPr/>
              <a:tblGrid>
                <a:gridCol w="2781360"/>
                <a:gridCol w="5210280"/>
              </a:tblGrid>
              <a:tr h="766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erso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            dla dzieci wentylowanych mechaniczn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ekar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8 etatu przeliczeniowego na 1 łóżko (równoważnik 1/8 etatu przeliczeniowego </a:t>
                      </a:r>
                      <a:br>
                        <a:rPr sz="1100"/>
                      </a:b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a 1 łóżko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fizjoterape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4 etatu przeliczeniowego na 1 łóżko (równoważnik 1/4 etatu przeliczeniowego               na 1 łóżko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sycholodz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łóże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ogopedz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terapeuci zajęcio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pacjentów uczestniczących w terap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opiekunowie medycz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 - dopuszcza się możliwość udzielania świadcze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28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93B7-5C79-4525-B914-01C27DD47454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9" name=""/>
          <p:cNvGraphicFramePr/>
          <p:nvPr/>
        </p:nvGraphicFramePr>
        <p:xfrm>
          <a:off x="488880" y="981000"/>
          <a:ext cx="8856720" cy="4713480"/>
        </p:xfrm>
        <a:graphic>
          <a:graphicData uri="http://schemas.openxmlformats.org/drawingml/2006/table">
            <a:tbl>
              <a:tblPr/>
              <a:tblGrid>
                <a:gridCol w="3532320"/>
                <a:gridCol w="2684520"/>
                <a:gridCol w="2639880"/>
              </a:tblGrid>
              <a:tr h="3859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 dorosłych, dzieci wentylowanych mechanicznie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uwag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078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łóżka szpitalne o regulowanej wysokości i wyposażone w ruchome barierki zabezpieczające przed wypadnięciem lub zawierające oprzyrządowanie do rehabilitacj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g wykazanej liczby łóżek w oświadczeni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zapobiegający powstawaniu odleżyn: materace przeciwodleżynowe, poduszki, podpórki, wałki,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ułatwiający pielęgnację świadczeniobiorcy: zintegrowany system do higieny ciała, podnośnik, parawany, pasy ślizgowe,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rehabilitacyjnego: UGUL, cykloergometr, rotory, materace, drabinki, poręcz do nauki chodzenia, zestaw do elektroterapii z osprzętem,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terapii zajęciowej: stoły do terapii zajęciowej, przybory do malowania i wyklejania, sprzęt do muzykoterapii, sprzęt do gier i zabaw, tablice do pisania, sprzęt audiowizualny, system haseł obrazkowo-tekstowych, sprzęt do nauki czynności życia codziennego,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oncentrator tlenu lub inne źródło tlenu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inhalator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glukometr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y do pomiaru ciśnienia tętniczego krw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do reanimacj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ule, laski, balkoniki, chodziki, wózki inwalidzkie, również z podparciem głow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ompy infuzyjn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tetoskop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respirator  wyposażony w: – akumulator pozwalający na: –  swobodne korzystanie z wózka inwalidzkiego, – podtrzymanie czynności respiratora do 4 godzin, – filtry powietrza w układzie, – komplet parametrów nastawnych, – 2 alarmy: rozłączenia układu i nadmiernego ciśnienia w drogach oddechowyc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dla każdego każdego świadczeniobiorc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, stanowiący własność świadczeniodawc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sak elektryczny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dla każdego świadczeniobiorcy z dodatkowym wyposażeniem jednorazowym (cewniki, łączniki) oraz ssak rezerwow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defibrylato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ulsoksymet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z jednorazowym sprzętem do pielęgnacji tracheostomii, gastrostomi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 EK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budynku lub zespole budynków oznaczonych tym samym adresem, w którym lub w których jest zlokalizowane miejsce udzielania świadczeń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931" name=""/>
          <p:cNvGraphicFramePr/>
          <p:nvPr/>
        </p:nvGraphicFramePr>
        <p:xfrm>
          <a:off x="920880" y="2143080"/>
          <a:ext cx="7993080" cy="294156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676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arunki lokal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230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) sale 1-2 łóżkowe z bezpośrednim sąsiedztwem łazienki i dostępem do wyłącznika światła dla pacjenta; w zakładach opiekuńczych dla dzieci i młodzieży do ukończenia 18. roku życia: sale 1-2 łóżkowe z zapewnieniem dostępu do łóżka z trzech stron i swobodnego korzystania ze sprzętu pielęgnacyjnego, rehabilitacyjnego i wspomagającego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) gabinet lekarski i zabiegowo-pielęgniarski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3) gabinet rehabilitacyjny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4) akumulatorowe źródło światła aktywowane w przypadku awarii prądu, alternatywne źródło zasilania elektrycznego – generator prądu, słyszalny alarm respiratora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b87d6"/>
                </a:solidFill>
                <a:latin typeface="Times New Roman"/>
              </a:rPr>
              <a:t>Świadczenia zespołu długoterminowej opieki domowej dla dorosłych i dzieci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b87d6"/>
                </a:solidFill>
                <a:latin typeface="Times New Roman"/>
              </a:rPr>
              <a:t>wentylowanych mechanicznie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15440" y="333000"/>
            <a:ext cx="8915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5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7244-783B-4D93-8F76-52AA572B52BE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6" name=""/>
          <p:cNvGraphicFramePr/>
          <p:nvPr/>
        </p:nvGraphicFramePr>
        <p:xfrm>
          <a:off x="849240" y="1413000"/>
          <a:ext cx="7991640" cy="2952720"/>
        </p:xfrm>
        <a:graphic>
          <a:graphicData uri="http://schemas.openxmlformats.org/drawingml/2006/table">
            <a:tbl>
              <a:tblPr/>
              <a:tblGrid>
                <a:gridCol w="2781360"/>
                <a:gridCol w="5210280"/>
              </a:tblGrid>
              <a:tr h="579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erso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zespołu długoterminowej opieki domowej dla dorosłych i dzieci wentylowanych mechaniczn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939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ekar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fizjoterape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8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3719-69EC-426F-BA04-257F17FA3BED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9" name=""/>
          <p:cNvGraphicFramePr/>
          <p:nvPr/>
        </p:nvGraphicFramePr>
        <p:xfrm>
          <a:off x="560520" y="1417680"/>
          <a:ext cx="8713800" cy="4387680"/>
        </p:xfrm>
        <a:graphic>
          <a:graphicData uri="http://schemas.openxmlformats.org/drawingml/2006/table">
            <a:tbl>
              <a:tblPr/>
              <a:tblGrid>
                <a:gridCol w="3475080"/>
                <a:gridCol w="2641320"/>
                <a:gridCol w="2597400"/>
              </a:tblGrid>
              <a:tr h="44136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medyczny i pomocnicz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zespołu długoterminowej opieki domowej dla dorosłych, dzieci i młodzieży wentylowanych mechaniczni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uwag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8398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 </a:t>
                      </a: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respirator wyposażony w: – akumulator pozwalający na: – –  swobodne korzystanie z wózka inwalidzkiego, – –  podtrzymanie czynności respiratora do 4 godzin, – filtry powietrza w układzie, – komplet parametrów nastawnych, – 2 alarmy: rozłączenia układu i nadmiernego ciśnienia w drogach oddechowych,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dla każdego świadczeniobiorc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 pobytu świadczeniobiorc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6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sak elektryczny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ależnie od potrzeb pacjen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 pobytu świadczeniobiorcy,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do pielęgnacji tracheostomii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ależnie od potrzeb pacjen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 pobytu świadczeniobiorcy,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niezbędny do obsługi respiratora, w tym jednorazowego użyc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 pobytu świadczeniobiorcy,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ulsoksymet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amorozprężalny worek oddechowy z zastawką jednokierunkową i maską twarzow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rzenośny aparat EK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 udzielania świadcze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do udzielania pierwszej pomocy lekarskie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 udzielania świadcze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140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eseser pielęgniarski wyposażony w: –  podstawowy sprzęt i materiały jednorazowego użytku, w tym zestaw do wykonania iniekcji, przetaczania płynów infuzyjnych, zestaw do wykonywania opatrunków, zestaw podstawowych narzędzi chirurgicznych, pakiet ochronny, – zestaw do założenia i usunięcia zgłębnika oraz do karmienia przez zgłębnik, stomię, – zestaw do karmienia przez przetokę i pielęgnacji przetoki, – zestaw do założenia, płukania i usunięcia cewnika, – pakiet do dezynfekcji, – zestaw przeciwwstrząsowy, – glukometr, – termometr, – aparat do pomiaru ciśnienia krwi, – zestaw do wykonywania zabiegów i czynności higieniczno-pielęgnacyjnych, – środki ochrony osobistej: fartuchy, maseczki, rękawice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dla każdej pielęgniarki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 udzielania świadcze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41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04E4-ECE1-4A3B-AD2C-2859CD5ABE55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2" name=""/>
          <p:cNvGraphicFramePr/>
          <p:nvPr/>
        </p:nvGraphicFramePr>
        <p:xfrm>
          <a:off x="992160" y="2752560"/>
          <a:ext cx="7777080" cy="21891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955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arunki lokal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939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) pomieszczenie przystosowane do celów biurowych oraz do przechowywania leków, materiałów opatrunkowych i sprzętu medycznego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) zapewnienie kontaktu telefoniczneg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ykaz gwarantowanych świadczeń opieki zdrowotnej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Świadczenia gwarantowane są realizowane </a:t>
            </a:r>
            <a:br>
              <a:rPr sz="2400"/>
            </a:b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 warunkach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)  stacjonarnych;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2)  domowych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7" name="Symbol zastępczy numeru slajdu 4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3CBC-CCC3-4CA1-9FF4-0BD89F7A76BA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 txBox="1"/>
          <p:nvPr/>
        </p:nvSpPr>
        <p:spPr>
          <a:xfrm>
            <a:off x="944280" y="1989000"/>
            <a:ext cx="80262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862aa"/>
                </a:solidFill>
                <a:latin typeface="Candara"/>
              </a:rPr>
              <a:t>Inne warunki udzielania świadczeń gwarantowanych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opieka w domu świadczeniobiorcy wymagającego stosowania inwazyjnej wentylacji mechanicznej: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a)  porady lekarskie w domu świadczeniobiorcy nie mniej niż 1 raz w tygodniu – dla każdego świadczeniobiorcy oraz stała dostępność w systemie zmianowym albo dyżurowym pod telefonem,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)  wizyty pielęgniarskie nie mniej niż 2 razy w tygodniu – dla każdego świadczeniobiorcy oraz stała dostępność w systemie zmianowym albo dyżurowym pod telefonem, c)  wizyty osoby prowadzącej fizjoterapię, nie mniej niż 2 razy w tygodniu – dla każdego świadczeniobiorcy (maksymalna częstotliwość i ogólna liczba wizyt domowych, o których mowa w lit. b i c, jest ustalana indywidualnie przez lekarza udzielającego świadczeniobiorcy świadczeń gwarantowanych)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944280" y="1844280"/>
            <a:ext cx="8026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862aa"/>
                </a:solidFill>
                <a:latin typeface="Candara"/>
              </a:rPr>
              <a:t>Inne warunki udzielania świadczeń gwarantowanych c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2) opieka w domu świadczeniobiorcy wymagającego stosowania nieinwazyjnej wentylacji mechanicznej, w przypadku świadczeniobiorców wentylowanych powyżej 16 godzin na dobę, w przypadku świadczeniobiorców z przewlekłą niewydolnością oddechową na podłożu chorób nerwowo-mięśniowych oraz w przypadku dzieci i młodzieży do ukończenia 18. roku życia bez względu na czas trwania nieinwazyjnej wentylacji mechanicznej: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porady lekarskie nie mniej niż 1 raz w tygodniu – dla każdego świadczeniobiorcy oraz stała dostępność w systemie zmianowym albo dyżurowym pod telefonem,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)  wizyty pielęgniarskie nie mniej niż 2 razy w tygodniu – dla każdego świadczeniobiorcy oraz stała dostępność w systemie zmianowym albo dyżurowym pod telefonem,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c)  wizyty osoby prowadzącej fizjoterapię, nie mniej niż 2 razy w tygodniu – dla każdego świadczeniobiorcy (maksymalna częstotliwość i ogólna liczba wizyt domowych, o których mowa w lit. b i c, jest ustalana indywidualnie przez lekarza udzielającego świadczeniobiorcy świadczeń gwarantowanych)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 txBox="1"/>
          <p:nvPr/>
        </p:nvSpPr>
        <p:spPr>
          <a:xfrm>
            <a:off x="944280" y="1844280"/>
            <a:ext cx="8026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862aa"/>
                </a:solidFill>
                <a:latin typeface="Candara"/>
              </a:rPr>
              <a:t>Inne warunki udzielania świadczeń gwarantowanych c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3) opieka w domu świadczeniobiorcy wymagającego stosowania nieinwazyjnej wentylacji mechanicznej, w przypadku świadczeniobiorców wentylowanych od 8 do 16 godzin na dobę: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porady lekarskie nie mniej niż 1 raz na 2 tygodnie – dla każdego świadczeniobiorcy oraz stała dostępność w systemie zmianowym albo dyżurowym pod telefonem,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wizyty pielęgniarskie nie mniej niż 1 raz w tygodniu – dla każdego świadczeniobiorcy oraz stała dostępność w systemie zmianowym albo dyżurowym pod telefonem,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c)  wizyty osoby prowadzącej fizjoterapię, nie mniej niż 2 razy w tygodniu – dla każdego świadczeniobiorcy (maksymalna częstotliwość i ogólna liczba wizyt domowych, o których mowa w lit b i c, jest ustalana indywidualnie przez lekarza udzielającego świadczeniobiorcy świadczeń gwarantowanych)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944280" y="1844280"/>
            <a:ext cx="8026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862aa"/>
                </a:solidFill>
                <a:latin typeface="Candara"/>
              </a:rPr>
              <a:t>Inne warunki udzielania świadczeń gwarantowanych c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4) opieka w domu świadczeniobiorcy wymagającego stosowania nieinwazyjnej wentylacji mechanicznej, w przypadku świadczeniobiorców wentylowanych poniżej 8 godzin na dobę: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porady lekarskie nie mniej niż 1 raz na kwartał – dla każdego świadczeniobiorcy oraz stała dostępność w systemie zmianowym albo dyżurowym pod telefonem,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)  wizyty pielęgniarskie nie mniej niż 1 raz na kwartał – dla każdego świadczeniobiorcy oraz stała dostępność w systemie zmianowym albo dyżurowym pod telefonem (maksymalna częstotliwość i ogólna liczba wizyt domowych, o których mowa w lit b, jest ustalana indywidualnie przez lekarza udzielającego świadczeniobiorcy świadczeń gwarantowanych)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b87d6"/>
                </a:solidFill>
                <a:latin typeface="Times New Roman"/>
              </a:rPr>
              <a:t>Pielęgniarska opieka długoterminowa domowa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4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7C50-C753-4133-AC08-06171EDEB32C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5" name=""/>
          <p:cNvGraphicFramePr/>
          <p:nvPr/>
        </p:nvGraphicFramePr>
        <p:xfrm>
          <a:off x="849240" y="1989000"/>
          <a:ext cx="7991640" cy="1295640"/>
        </p:xfrm>
        <a:graphic>
          <a:graphicData uri="http://schemas.openxmlformats.org/drawingml/2006/table">
            <a:tbl>
              <a:tblPr/>
              <a:tblGrid>
                <a:gridCol w="2781360"/>
                <a:gridCol w="5210280"/>
              </a:tblGrid>
              <a:tr h="698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erso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ska opieka długoterminowa domow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96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etat na 6 pacjentów pod różnymi adresami lub 12 pacjentów pod tym samym adres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7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65CD-608C-4D20-B208-04E04AB0263A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8" name=""/>
          <p:cNvGraphicFramePr/>
          <p:nvPr/>
        </p:nvGraphicFramePr>
        <p:xfrm>
          <a:off x="992160" y="1646280"/>
          <a:ext cx="7777080" cy="3565440"/>
        </p:xfrm>
        <a:graphic>
          <a:graphicData uri="http://schemas.openxmlformats.org/drawingml/2006/table">
            <a:tbl>
              <a:tblPr/>
              <a:tblGrid>
                <a:gridCol w="4417920"/>
                <a:gridCol w="3359160"/>
              </a:tblGrid>
              <a:tr h="569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medyczny i pomocnicz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ska opieka długoterminowa domow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2995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eseser pielęgniarski  wyposażony w: 1) podstawowy sprzęt i materiały jednorazowego użytku, w tym zestaw do wykonania iniekcji, przetaczania płynów infuzyjnych, zestaw do wykonywania opatrunków, zestaw podstawowych narzędzi chirurgicznych, pakiet ochronny; 2) zestaw do założenia i usunięcia zgłębnika oraz do karmienia przez zgłębnik, stomię; 3) zestaw do karmienia przez przetokę i pielęgnacji przetoki; 4) zestaw do założenia, płukania i usunięcia cewnika; 5) pakiet do odkażania i dezynfekcji; 6) zestaw do pielęgnacji tracheostomii; 7) zestaw przeciwwstrząsowy; 8) maseczka twarzowa do prowadzenia oddechu zastępczego; 9) glukometr; 10) termometr; 11) zestaw do wykonywania zabiegów i czynności higieniczno-pielęgnacyjnych; 12) środki ochrony osobistej: fartuchy, maseczki, rękawice; 13) aparat do pomiaru ciśnienia krwi; 14) stetoskop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dla każdej 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6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DD9C-E17B-4EED-BF60-1CF8AA16B47B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1" name=""/>
          <p:cNvGraphicFramePr/>
          <p:nvPr/>
        </p:nvGraphicFramePr>
        <p:xfrm>
          <a:off x="776160" y="2752560"/>
          <a:ext cx="8353440" cy="204480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892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arunki lokal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879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) pomieszczenie przystosowane do celów biurowych oraz do przechowywania leków, materiałów opatrunkowych i sprzętu medycznego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) zapewnienie kontaktu telefoniczneg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944280" y="1989000"/>
            <a:ext cx="80262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862aa"/>
                </a:solidFill>
                <a:latin typeface="Candara"/>
              </a:rPr>
              <a:t>Inne warunki udzielania świadczeń gwarantowanych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dostępność od poniedziałku do piątku w godzinach od 800 do 2000;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2)   dostępność w soboty i dni ustawowo wolne od pracy – w medycznie uzasadnionych przypadkach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)   wizyty – nie mniej niż 4 razy w tygodniu;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4)   liczba świadczeniobiorców objętych opieką, przebywających pod różnymi adresami zamieszkania – równoważnik 1 etatu przeliczeniowego – pielęgniarka nie może jednoczasowo opiekować się więcej niż 6 świadczeniobiorcami;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5)   liczba świadczeniobiorców objętych opieką, przebywających pod tym samym adresem zamieszkania (np. w domu pomocy społecznej) – równoważnik 1 etatu przeliczeniowego – pielęgniarka nie może jednoczasowo opiekować się więcej niż 12 świadczeniobiorcami</a:t>
            </a:r>
            <a:r>
              <a:rPr b="0" lang="pl-PL" sz="24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862aa"/>
                </a:solidFill>
                <a:latin typeface="Times New Roman"/>
              </a:rPr>
              <a:t>PROPORCJONALNE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2862aa"/>
                </a:solidFill>
                <a:latin typeface="Times New Roman"/>
              </a:rPr>
              <a:t>WYLICZANIE CZASU PRACY DANEGO PERSONELU WZGLĘDEM LICZBY ŚWIADCZEŃ WSKAZANEJ W OFERCIE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2862aa"/>
                </a:solidFill>
                <a:latin typeface="Times New Roman"/>
              </a:rPr>
              <a:t>(np. punkt w pielęgniarskiej opiece długoterminowej domowej = 1 osobodzień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 txBox="1"/>
          <p:nvPr/>
        </p:nvSpPr>
        <p:spPr>
          <a:xfrm>
            <a:off x="272880" y="1484280"/>
            <a:ext cx="93600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ykaz gwarantowanych świadczeń opieki zdrowotnej – zakresy kontraktowane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850" name="Picture 5" descr=""/>
          <p:cNvPicPr/>
          <p:nvPr/>
        </p:nvPicPr>
        <p:blipFill>
          <a:blip r:embed="rId1"/>
          <a:stretch/>
        </p:blipFill>
        <p:spPr>
          <a:xfrm>
            <a:off x="928800" y="2376360"/>
            <a:ext cx="80485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 txBox="1"/>
          <p:nvPr/>
        </p:nvSpPr>
        <p:spPr>
          <a:xfrm>
            <a:off x="944280" y="2060280"/>
            <a:ext cx="80262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W pielęgniarskiej opiece długoterminowej domowej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w indywidualnym harmonogramie pracy; w typie udzielania świadczeń 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wskazujemy „praca w miejscu”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(a nie wizyty domowe, tryb zarezerwowany dla podstawowej opieki zdrowotnej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"/>
          <p:cNvSpPr txBox="1"/>
          <p:nvPr/>
        </p:nvSpPr>
        <p:spPr>
          <a:xfrm>
            <a:off x="944280" y="2349000"/>
            <a:ext cx="80262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W pielęgniarskiej opiece długoterminowej domowej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harmonogram pracy komórki organizacyjnej musi być wypełniony indywidualnymi harmonogramami pracy pielęgniarek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poniedziałek-piątek od 08:00 do 20:00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sobota-niedziela (np. od 08:00 do 10:00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 txBox="1"/>
          <p:nvPr/>
        </p:nvSpPr>
        <p:spPr>
          <a:xfrm>
            <a:off x="944280" y="2133720"/>
            <a:ext cx="80262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ewidencjonowanie kompetencji pielęgniarskich:</a:t>
            </a:r>
            <a:br>
              <a:rPr sz="2400"/>
            </a:b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w przypadku wykazywania w ofercie pielęgniarek, będących w trakcie uzyskiwania wymaganych kwalifikacji  należy wskazać kompetencję </a:t>
            </a:r>
            <a:br>
              <a:rPr sz="2400"/>
            </a:b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o kodzie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0303 - pielęgniarka w trakcie szkolenia specjalizacyjnego/ kursu kwalifikacyjnego/kursu specjalistycznego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3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3881-4AE9-450A-BF41-A1F0268BB7D8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4" name=""/>
          <p:cNvGraphicFramePr/>
          <p:nvPr/>
        </p:nvGraphicFramePr>
        <p:xfrm>
          <a:off x="272880" y="1601640"/>
          <a:ext cx="9402840" cy="4635720"/>
        </p:xfrm>
        <a:graphic>
          <a:graphicData uri="http://schemas.openxmlformats.org/drawingml/2006/table">
            <a:tbl>
              <a:tblPr/>
              <a:tblGrid>
                <a:gridCol w="1513080"/>
                <a:gridCol w="1582560"/>
                <a:gridCol w="1873440"/>
                <a:gridCol w="2473200"/>
                <a:gridCol w="1960560"/>
              </a:tblGrid>
              <a:tr h="459000">
                <a:tc gridSpan="5"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ymagana dostępność komórek organizacyjnyc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00320"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spół długoterminowej opieki domowej dla pacjentów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spół długoterminowej opieki domowej dla dzieci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elęgniarska opieka długoterminowa domow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kład pielęgnacyjno-opiekuńczy/zakład opiekuńczo-leczniczy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m dla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kład pielęgnacyjno-opiekuńczy/zakład opiekuńczo-leczniczy dla dzieci i młodzieży w tym dla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976400"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/godziny 7 dni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/godziny 7 dni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 poniedziałku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 piątku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godzinach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 8:00 do 20:00 oraz w soboty i dni ustawowo wolne od pracy –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medycznie uzasadnionych przypadk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/godziny 7 dni     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/godziny 7 dni    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75e47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675e47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6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0E5E-946D-4E62-AD14-C287B9E16A42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7" name=""/>
          <p:cNvGraphicFramePr/>
          <p:nvPr/>
        </p:nvGraphicFramePr>
        <p:xfrm>
          <a:off x="344520" y="2133720"/>
          <a:ext cx="9361440" cy="3517920"/>
        </p:xfrm>
        <a:graphic>
          <a:graphicData uri="http://schemas.openxmlformats.org/drawingml/2006/table">
            <a:tbl>
              <a:tblPr/>
              <a:tblGrid>
                <a:gridCol w="1488960"/>
                <a:gridCol w="1525680"/>
                <a:gridCol w="1527120"/>
                <a:gridCol w="2009880"/>
                <a:gridCol w="2809800"/>
              </a:tblGrid>
              <a:tr h="314280">
                <a:tc gridSpan="5"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ersonel: harmonogramy pra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9000"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spół długoterminowej opieki domowej dla pacjentów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spół długoterminowej opieki domowej dla dzieci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elęgniarska opieka długoterminowa domow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kład pielęgnacyjno-opiekuńczy/zakład opiekuńczo-leczniczy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m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la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kład pielęgnacyjno-opiekuńczy/zakład opiekuńczo-leczniczy dla dzieci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młodzieży w tym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la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214640"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zba godzin pracy 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zba godzin pracy 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rmonogram godzinowy w rozbiciu na dni tygod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zba godzin pracy 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zba godzin pracy 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272520" y="2349000"/>
            <a:ext cx="94330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Candara"/>
              </a:rPr>
              <a:t>Od 1 lipca 2018 r. obowiązuje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Zarządzenie nr 45/2018/DSOZ Prezesa Narodowego Funduszu Zdrowia z dnia 30 maja 2018 r. w sprawie określenia warunków zawierania i realizacji umów w rodzaju świadczenia pielęgnacyjne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i opiekuńcze w ramach opieki długoterminowej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4a8a4"/>
                </a:solidFill>
                <a:latin typeface="Candara"/>
              </a:rPr>
              <a:t>przedmiot postępowania w sprawie zawarcia umów </a:t>
            </a:r>
            <a:br>
              <a:rPr sz="2800"/>
            </a:br>
            <a:r>
              <a:rPr b="0" lang="pl-PL" sz="2800" spc="-1" strike="noStrike">
                <a:solidFill>
                  <a:srgbClr val="04a8a4"/>
                </a:solidFill>
                <a:latin typeface="Candara"/>
              </a:rPr>
              <a:t>o udzielanie świadczeń opieki zdrowotnej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4a8a4"/>
                </a:solidFill>
                <a:latin typeface="Candara"/>
              </a:rPr>
              <a:t>szczegółowe warunki umów o udzielanie świadczeń opieki zdrowotnej (wzór umowy)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7B41-9AFD-4A6D-898B-2EE1B51D9DA8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2" name=""/>
          <p:cNvSpPr txBox="1"/>
          <p:nvPr/>
        </p:nvSpPr>
        <p:spPr>
          <a:xfrm>
            <a:off x="344160" y="2674440"/>
            <a:ext cx="92883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Załącznik nr 1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Katalog świadczeń pielęgnacyjnych i opiekuńczych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dla świadczeń gwarantowanych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3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0BFA-63A1-4719-96A9-4FD6CC6DB21A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Katalog świadczeń pielęgnacyjnych i opiekuńczych dla świadczeń gwarantowanych 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5" name="Symbol zastępczy numeru slajdu 5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0004-F414-422A-B1C5-4DAE5FDF5201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Picture 5" descr=""/>
          <p:cNvPicPr/>
          <p:nvPr/>
        </p:nvPicPr>
        <p:blipFill>
          <a:blip r:embed="rId1"/>
          <a:stretch/>
        </p:blipFill>
        <p:spPr>
          <a:xfrm>
            <a:off x="200160" y="1413000"/>
            <a:ext cx="95770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Katalog świadczeń pielęgnacyjnych i opiekuńczych dla świadczeń gwarantowanych 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8" name="Symbol zastępczy numeru slajdu 5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A7FF-87DD-4FAC-9BEB-D42C8D6058A3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9" name="Picture 2" descr=""/>
          <p:cNvPicPr/>
          <p:nvPr/>
        </p:nvPicPr>
        <p:blipFill>
          <a:blip r:embed="rId1"/>
          <a:stretch/>
        </p:blipFill>
        <p:spPr>
          <a:xfrm>
            <a:off x="0" y="2095560"/>
            <a:ext cx="98488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Katalog świadczeń pielęgnacyjnych i opiekuńczych dla świadczeń gwarantowanych 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1" name="Symbol zastępczy numeru slajdu 5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C3B9-2D21-4CB5-A554-EA9CD548A041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2" name="Picture 2" descr=""/>
          <p:cNvPicPr/>
          <p:nvPr/>
        </p:nvPicPr>
        <p:blipFill>
          <a:blip r:embed="rId1"/>
          <a:stretch/>
        </p:blipFill>
        <p:spPr>
          <a:xfrm>
            <a:off x="200160" y="2400480"/>
            <a:ext cx="9577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2" name="Symbol zastępczy numeru slajdu 4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56D9-1880-4D26-8605-BFE9D17E5BEF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3" name=""/>
          <p:cNvGraphicFramePr/>
          <p:nvPr/>
        </p:nvGraphicFramePr>
        <p:xfrm>
          <a:off x="272880" y="1844640"/>
          <a:ext cx="9360000" cy="2989440"/>
        </p:xfrm>
        <a:graphic>
          <a:graphicData uri="http://schemas.openxmlformats.org/drawingml/2006/table">
            <a:tbl>
              <a:tblPr/>
              <a:tblGrid>
                <a:gridCol w="1960560"/>
                <a:gridCol w="1748160"/>
                <a:gridCol w="1519200"/>
                <a:gridCol w="2325600"/>
                <a:gridCol w="1806480"/>
              </a:tblGrid>
              <a:tr h="436680">
                <a:tc gridSpan="5"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0000"/>
                          </a:solidFill>
                          <a:latin typeface="Candara"/>
                        </a:rPr>
                        <a:t>Kody resortowe komórek organizacyjnyc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8120"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spół długoterminowej opieki domowej dla pacjentów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spół długoterminowej opieki domowej dla dzieci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elęgniarska opieka długoterminowa domow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kład pielęgnacyjno-opiekuńczy/zakład opiekuńczo-leczniczy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m dla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kład pielęgnacyjno-opiekuńczy/zakład opiekuńczo-leczniczy dla dzieci i młodzież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m dla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14640"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/51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1/51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4" name="Prostokąt 6"/>
          <p:cNvSpPr/>
          <p:nvPr/>
        </p:nvSpPr>
        <p:spPr>
          <a:xfrm>
            <a:off x="344520" y="5300640"/>
            <a:ext cx="9145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f2b20"/>
                </a:solidFill>
                <a:latin typeface="Arial"/>
                <a:ea typeface="Arial"/>
              </a:rPr>
              <a:t>*/ ROZPORZĄDZENIE Ministra Zdrowia z dnia 17 maja 2012 r. w sprawie systemu resortowych kodów identyfikacyjnych oraz szczegółowego sposobu ich nadawania (Dz.U. z 2012 r. poz. 594), zmienione rozporządzeniem Ministra Zdrowia z dnia 27 kwietnia 2017 r. w sprawie systemu resortowych kodów identyfikacyjnych oraz szczegółowego sposobu ich nadawania (Dz.U. z 2017 r. poz. 999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Katalog świadczeń pielęgnacyjnych i opiekuńczych dla świadczeń gwarantowanych 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4" name="Symbol zastępczy numeru slajdu 5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48C3-C476-41D6-BC10-6013A59FF58A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5" name="Picture 2" descr=""/>
          <p:cNvPicPr/>
          <p:nvPr/>
        </p:nvPicPr>
        <p:blipFill>
          <a:blip r:embed="rId1"/>
          <a:stretch/>
        </p:blipFill>
        <p:spPr>
          <a:xfrm>
            <a:off x="128520" y="2066760"/>
            <a:ext cx="964872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Katalog świadczeń pielęgnacyjnych i opiekuńczych dla świadczeń gwarantowanych 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7" name="Symbol zastępczy numeru slajdu 5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4A60-50EC-40CC-B935-D084EE9B9C12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8" name="Picture 2" descr=""/>
          <p:cNvPicPr/>
          <p:nvPr/>
        </p:nvPicPr>
        <p:blipFill>
          <a:blip r:embed="rId1"/>
          <a:stretch/>
        </p:blipFill>
        <p:spPr>
          <a:xfrm>
            <a:off x="57240" y="2371680"/>
            <a:ext cx="97200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2"/>
          <p:cNvSpPr/>
          <p:nvPr/>
        </p:nvSpPr>
        <p:spPr>
          <a:xfrm>
            <a:off x="631800" y="2060640"/>
            <a:ext cx="8785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Wzory oświadcze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ZARZĄDZENIE WEWNĘTRZNE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DYREKTORA ŚLĄSKIEGO ODDZIAŁU WOJEWÓDZKIEGO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NARODOWEGO FUNDUSZU ZDROWIA W KATOWICACH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Nr 179/2015  z dnia 5 listopada 2015  r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sprawie wprowadzenia zasad weryfikacji oferentów uczestniczących w postępowaniach poprzedzających zawarcie umów o udzielanie świadczeń opieki zdrowotnej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2"/>
          <p:cNvSpPr/>
          <p:nvPr/>
        </p:nvSpPr>
        <p:spPr>
          <a:xfrm>
            <a:off x="631800" y="2060640"/>
            <a:ext cx="8785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7" name="Picture 5" descr=""/>
          <p:cNvPicPr/>
          <p:nvPr/>
        </p:nvPicPr>
        <p:blipFill>
          <a:blip r:embed="rId1"/>
          <a:stretch/>
        </p:blipFill>
        <p:spPr>
          <a:xfrm>
            <a:off x="2079720" y="549360"/>
            <a:ext cx="5746680" cy="6192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2"/>
          <p:cNvSpPr/>
          <p:nvPr/>
        </p:nvSpPr>
        <p:spPr>
          <a:xfrm>
            <a:off x="631800" y="2060640"/>
            <a:ext cx="8785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Picture 2" descr=""/>
          <p:cNvPicPr/>
          <p:nvPr/>
        </p:nvPicPr>
        <p:blipFill>
          <a:blip r:embed="rId1"/>
          <a:stretch/>
        </p:blipFill>
        <p:spPr>
          <a:xfrm>
            <a:off x="2079720" y="214200"/>
            <a:ext cx="5746680" cy="5667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2"/>
          <p:cNvSpPr/>
          <p:nvPr/>
        </p:nvSpPr>
        <p:spPr>
          <a:xfrm>
            <a:off x="631800" y="2060640"/>
            <a:ext cx="8785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2" descr=""/>
          <p:cNvPicPr/>
          <p:nvPr/>
        </p:nvPicPr>
        <p:blipFill>
          <a:blip r:embed="rId1"/>
          <a:stretch/>
        </p:blipFill>
        <p:spPr>
          <a:xfrm>
            <a:off x="2079720" y="404640"/>
            <a:ext cx="5746680" cy="6193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2"/>
          <p:cNvSpPr/>
          <p:nvPr/>
        </p:nvSpPr>
        <p:spPr>
          <a:xfrm>
            <a:off x="631800" y="2060640"/>
            <a:ext cx="8785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Picture 2" descr=""/>
          <p:cNvPicPr/>
          <p:nvPr/>
        </p:nvPicPr>
        <p:blipFill>
          <a:blip r:embed="rId1"/>
          <a:stretch/>
        </p:blipFill>
        <p:spPr>
          <a:xfrm>
            <a:off x="2079720" y="1274760"/>
            <a:ext cx="5746680" cy="5259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2"/>
          <p:cNvSpPr/>
          <p:nvPr/>
        </p:nvSpPr>
        <p:spPr>
          <a:xfrm>
            <a:off x="631800" y="2060640"/>
            <a:ext cx="8785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Kontakt telefoniczny w sprawie pytań merytoryczny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nr telefonu:</a:t>
            </a: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	</a:t>
            </a: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32/ 735 19 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1444680" y="3524400"/>
            <a:ext cx="7016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pis komórki / miejsca realizacji świadczeń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na obszarze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kontraktowania świadczeń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 rejestrze podmiotów wykonujących działalność leczniczą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2"/>
          <p:cNvSpPr/>
          <p:nvPr/>
        </p:nvSpPr>
        <p:spPr>
          <a:xfrm>
            <a:off x="631800" y="1916280"/>
            <a:ext cx="8785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Dziękuję za uwagę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272880" y="2205000"/>
            <a:ext cx="9360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11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Świadczenia gwarantowane udzielane w </a:t>
            </a:r>
            <a:r>
              <a:rPr b="0" lang="pl-PL" sz="2200" spc="-1" strike="noStrike" u="sng">
                <a:solidFill>
                  <a:srgbClr val="073e87"/>
                </a:solidFill>
                <a:uFillTx/>
                <a:latin typeface="Candara"/>
              </a:rPr>
              <a:t>warunkach stacjonarnych 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realizowane są w :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akładach opiekuńczych dla osób dorosłych,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akładach opiekuńczych dla pacjentów wentylowanych mechanicznie,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akładach opiekuńczych dla dzieci i młodzieży do ukończenia 18. roku życia,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akładach opiekuńczych dla pacjentów lub dzieci wentylowanych mechanicznie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4a8a4"/>
                </a:solidFill>
                <a:latin typeface="Candara"/>
              </a:rPr>
              <a:t>Zakłady opiekuńcze to:  zakłady opiekuńczo-lecznicze i pielęgnacyjno-opiekuńcze, </a:t>
            </a:r>
            <a:br>
              <a:rPr sz="1900"/>
            </a:br>
            <a:r>
              <a:rPr b="0" lang="pl-PL" sz="1900" spc="-1" strike="noStrike">
                <a:solidFill>
                  <a:srgbClr val="04a8a4"/>
                </a:solidFill>
                <a:latin typeface="Candara"/>
              </a:rPr>
              <a:t>o których mowa w ustawie z dnia 15 kwietnia 2011 r. o działalności leczniczej </a:t>
            </a:r>
            <a:br>
              <a:rPr sz="1900"/>
            </a:br>
            <a:r>
              <a:rPr b="0" lang="pl-PL" sz="1900" spc="-1" strike="noStrike">
                <a:solidFill>
                  <a:srgbClr val="04a8a4"/>
                </a:solidFill>
                <a:latin typeface="Candara"/>
              </a:rPr>
              <a:t>(tj. Dz. U. z 2018 r. poz. 2190)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9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15C7-B2DB-41AF-AFEC-55EBDE8166F5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344160" y="2205000"/>
            <a:ext cx="92883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 zakresie koniecznym do wykonania świadczeń gwarantowanych świadczeniodawca zapewnia świadczeniobiorcy nieodpłatnie: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1)  badania diagnostyczne;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2)  leki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2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1C4B-7B01-452B-AB3E-928E061EF756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20:16:07Z</dcterms:created>
  <dc:creator>katarzyna.wiktorzak</dc:creator>
  <dc:description/>
  <dc:language>en-US</dc:language>
  <cp:lastModifiedBy>Wojciech Mika</cp:lastModifiedBy>
  <cp:lastPrinted>2014-03-13T11:33:09Z</cp:lastPrinted>
  <dcterms:modified xsi:type="dcterms:W3CDTF">2019-03-15T13:18:36Z</dcterms:modified>
  <cp:revision>1195</cp:revision>
  <dc:subject/>
  <dc:title>Slajd 1</dc:title>
</cp:coreProperties>
</file>