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28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4AA74607-BBA6-4AFE-B43F-2211A7E1EDF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9BE90D5-D090-461D-B9AC-A4CE11505FC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4753C58-65E1-4343-A722-896D48EF3D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9D64-9E37-4952-B048-86DC8CE11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B19C-252C-4600-8FCB-CC031A930D6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8513B-7ED4-42F1-B255-1B017B36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BD875-F8BA-4A33-97F8-D60EBD3E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75F53-8219-4AD3-AB23-20048DE8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67335-91B5-4C4C-8BC5-EB1B7C89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B3C9D-4A9A-4B9D-BAA7-49CC9B63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0679B-4DC4-4361-B09C-6F1304BD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6C755-A921-4E19-9CB9-249F3663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92D99-7A51-4378-A53A-B44B8F58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0EC22-60C5-4D1E-88D7-57C46A9F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D075C-45A1-4DB1-ADEE-D84EAE3C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76378-2418-414A-A08A-3FCCCF312BF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20959-8052-4758-BDF1-8EF889E6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DCC27-68EA-480D-80F4-9C45729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5064E-2F09-4C73-909F-563EF7CF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C6F1C-F350-4E51-8481-D2068E79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022AB-AA09-4E4D-8DC7-8BB881A2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AF46B-6845-4277-B0FB-BA1AAB26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D7A3A-936B-4081-A598-3A82D15B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5FDB5-AB8E-422E-B784-1F4C8910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5D441-2EF7-4298-BF66-C70E9985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A5E43-F0B3-4955-99B2-11F2E0A8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685F6-0A05-455A-A328-7A61BC58986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703C0-4D05-42FC-B4E5-3715B01B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0D082-132E-43CD-A1D9-56D4A771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85726-2331-48D6-A727-089B642C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144C1-B550-4AE7-9934-CFEEA100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B0B1F-9CAB-4677-A4FE-ADD3363C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87197-39A2-4091-BE61-72CC3F87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E7927-6CFC-4681-BE27-1F38D3A1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3EEC4-C110-4D35-9192-4B623EC5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0F549-071F-4CDF-9E16-11633324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4E4D1-A39D-4E52-ABB1-BD7712D4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36F05-55A1-468D-8C8D-26ABEE33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BE47E-6762-458B-9B56-F6993D2D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A4327-7369-4867-8379-6FE90E69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83780-8DDF-42DB-B227-F3C1EB35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59F8C-7F82-4CCC-9910-F43FB0DA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5AFAA-FA78-4F76-84D9-63AA4AF4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1BEF0-E4A8-4716-BC82-A4F2AC38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11CA3-9F21-4E3A-8210-216D9056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5FC5D-812E-430D-B4EC-BB3C6DC9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950E5-AB9E-49F7-A6A9-6E30F083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EDED6-8250-4101-BD52-E740D4C5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8C7FE-2C2F-4045-8F4B-B701A546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ED4E3-1DDC-4A57-8C3A-C40614F4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E628B-4C1F-4EA5-AEDF-78103F05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ABCE5-C7C6-4767-9206-CE51ACF7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3A880-48C0-4DBB-9B06-0CD28AF6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1D67B-2893-4F90-B7E8-C419334A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24551-2826-4975-9439-7E32E809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35734-F010-41BA-AD01-CD4AF075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C3CDF-48DA-4E89-B8D9-3BE7FDA8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14C3C-8ED9-4AC0-B0AA-EB2FF18A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89CF9-0727-43B4-A143-6631A3F9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8FF10-75FD-4275-B397-C04B1E39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303EE-3596-4C40-963E-AC73DD81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FAF7E-01D4-43BF-8B2A-92F07532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652EF-D039-40D8-BE3E-52FC9670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DD98D-9096-40FE-9013-6FEA0F52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E8024-A571-47B0-8089-8D84BA8A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470A9-B4D3-493C-8BD2-CCBEEDF0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7748C-A707-40FC-A10F-D2E88891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A98CB-11C0-4299-A1C7-D0D2021F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05D05-5E16-44A8-B1C8-DAFC858D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D1D65-2B00-4FFE-AD22-A1610405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1A593-04C2-4EE5-B2FF-3F9D3BC4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91518-1DCE-4E4B-801C-55E78FBD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4CC52-ED4C-4CA6-9AE1-2876047A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F6FA1-02C9-4F82-AAED-B8E351E1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3822B-E71A-4A64-9E4E-81F615B8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5F1D7-5D52-4CEC-AF9A-C404CE6A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F2D53-FAE4-44C0-B719-F4677CF2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45AAE-D38D-470C-9AF0-5AA81DBB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366FE-7A34-422F-9522-0355E743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63B6E-9A2E-42F4-8C61-747D1132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EDC8E-5192-42EB-AEFF-3033452A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90F82-F87C-4B4D-A52D-F12931AF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5BC60-6EF4-4825-8B8B-43A2DC65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4BF62-0057-47DD-998D-12D5660F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5EE26-C111-46C3-83E1-613ECA46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97541-DD3B-4437-85BC-5DA6AFFD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AACEE-6616-4D1D-A738-CAC07C3D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B9F5D-E08C-48C5-B107-DE3E076A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1C4B7-AAFE-40B1-BB49-52968511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9CAA8-5832-47BA-8A5C-87742144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7CC7F-351D-4CEF-9406-5F416C6C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3B2CA-DF59-4098-883C-F4C7DF6C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601F7-379E-44D0-B805-10885A27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DBF9B-9648-4FCB-8AE8-1EE464A6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4A2025-4C65-4B7B-8995-F6F5F31D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CCE26-20E6-4004-9E69-2D63C069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5B979-AC55-4DD0-A271-301F9FE7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A339B-8B2B-4506-A98C-5B778605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D8C20-7D62-46FC-86D5-E7BC8486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95A38-27DA-44F3-ACFA-661E75C2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CCAD4-5725-4300-B4F6-E7D1B827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80C1C-0851-43E4-9F75-FBC886AB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12485-043F-4740-9891-9D841D26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85BE4-C114-441B-9F80-61C562D0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529DD-2F86-44D8-A090-89511A87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72147-C092-4FB1-88AE-AE805C3C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21509-0B0E-4860-BF4E-0C793526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38635-6189-4FAD-808B-D7E9A820D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3A919B-5196-46B0-9DD2-D2321744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E3189-3269-46E3-A984-5C69B904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E643F-0A00-4A70-94EF-4418DE5E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6BD2B-4006-4AB1-8DC7-A9C8EF89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A19BE-55B0-4CE5-A7DA-E8ABB57A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37DAA6-B5B3-4278-B5C7-9D14ECFE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EA43B-87E9-4CE1-91C7-59580819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3ADAC-9C3F-4758-A0AA-C05ECC13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9D6A3-0B74-442C-A459-233EF31D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F7084-1525-4B1D-8341-A2BD96AC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EA2FB-0D82-4C73-880D-B810B3C6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3EE9E-9625-41AD-9777-B96BD596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CCEA0F-7A99-479E-8A33-2689B2D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6E293-1D46-4861-B84A-08B24FCC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6B2314-05F8-407C-995B-203B97C1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D8D67E-AE43-48F5-990D-428101F3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CC7F8C-A430-4ED5-95E6-642002F1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2E9A4-CA6D-4A10-8668-A9BD6FCF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4AE76-E3C1-4411-AB0D-90BCFEFD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02F74-C946-48AE-AA1F-781BC1CB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E53AA-EBC3-4723-80FF-CCB64E5C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53C08-9192-4227-A876-5D8DC544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73DC-B1A5-45F9-ACA9-C47E50EABF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CD835-ACE3-48F3-9BDE-83AF8EC8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B502E-C78E-43D0-8C22-806D08C6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78147-BE24-4666-8E3E-A2C80E05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EED08-D8ED-444D-AF8A-823B3CFD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1785C-B7DE-45C7-AADB-AC880D75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03E6B-F509-46FC-BAD1-11D70797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ED0CB-F993-41F1-AF1C-E269CEFC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E3DF-DBC2-4AC6-98A8-F6878C721B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6A9AE-D6B1-4ABC-A44C-32330A58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A529-8C06-4243-AC41-9A844D4B16B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9D70D-B462-40AF-8B7E-2C50DA46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FAE97-9B45-4174-99AB-9CF50B19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9BAB4-4D71-4931-8579-A3206687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22799-19A9-4484-9749-0D2BFB7F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BFEDB-09B8-4418-A7F8-DF57C3B8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DBB43-5169-481F-ACE1-FCB2F45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9C14D-BED1-4D57-8447-13B42D5A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B6C16-DCBA-420B-8302-60B49DF1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3C035-4ECA-4514-B922-30C9C3BB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46086-33DA-403D-B65B-988784B3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C3D7-F75A-4501-8C55-A15417A37A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81256-EAE2-4096-8709-D8923797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5D8367-192B-4AEC-8C65-FD108FD2608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0D4B5-9FEC-4B74-9F7F-548E712E172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FD56A-07FD-44C9-8103-384E4C21ADD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0175F3-FF56-4F26-B682-2B845BF9870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A639E-2645-45C3-98ED-29AF68F9785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8E660-AD78-4CBB-BAEA-FB767201501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066A02-FF58-4732-ACAE-B43351AF429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2C5B75-3651-4FE4-B56E-6742918A9B4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DF9403-06E5-43BC-8426-88EAF3EBD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8A4C5-96D1-4867-96C2-92835442022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69B689-38FC-4594-9C46-8CBBAD0862B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A1977C-F118-40BF-A39C-E1F9EB82FBF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F55C7-00E8-4EC3-9436-82298EF0DBB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46732-E34D-4DCA-A69D-0848D59C45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CD073-0064-4B62-8B29-D1FD8D89C7A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3510F-F263-4D4B-9091-06CF494CD1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19593-36D2-41BE-8F87-C52ADE091C6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3A251-06B0-41B6-9781-9746FA61B88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5F73C-7082-494F-82C5-1A71CA84C2E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DF64C-AFC9-42B2-8E1F-65BF2E4DE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2FF2-1F11-4770-86CC-DAC06AB2389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C831D-BA25-4F55-89EF-B2414B9B68D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52F1C-667F-409E-A19A-36E49F7E4C1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0FA95-F0A3-4DE7-BF99-AA5562144DE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5843-8218-4F43-AE2E-C1C05C77D2B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E597D-5D5A-45B1-AA13-4FE1087ED5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220D-A078-4119-B2E7-B9C3BC9E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A24F2-861D-4B6A-B732-B6930B65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BA71D-06FB-4E4C-B042-C9B9DCC1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2E428-D3FF-4D72-B2F7-55E6C288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CD9D-3606-420F-800A-04EEB81D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7D90-3233-4BBD-9448-FAC2E2AD489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FCA0-89BA-4B4D-B0C6-A75DBF0F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07961-F4ED-4D63-A369-B54E7C22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A99F-DD51-4B4E-A3DB-F7EDEB97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FA7B3-0123-40E8-86B4-6409458C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0D94E-11BF-4CF0-B57F-DB411C28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E05C5-9F13-45E4-A2CD-165AADFD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518B8-0998-4C44-A2E6-7E4BFF42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0951C-C182-41F7-A8B2-7963EB34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264C5-AF99-4D40-A00B-1159E82F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E7E81-5422-41C8-90EB-DC8F245C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E4EC-2F13-4869-8BDD-9B7E0B64692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65C0-2661-48D9-8B42-71FF3CF232A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DC31-9895-4147-8763-2CA0C3C3EE9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BED1-95DB-44A9-A40B-3F6720E6142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46F6-B4C7-46DB-99BB-89FD03C1E52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FCAF-F7CF-4A5A-A364-A11D2D6927A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A2DA-68B7-4722-BB61-76A61BBEC39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ED95-E6FB-409D-A434-BC7C4302D4A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CCCD-D798-43F4-B2C3-DB7B179E34F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632D-EC32-4402-B610-B6D0CA21508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AC57-39E9-4D06-954D-7077B14554F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31A6-DCB1-4DEE-BF2C-85DEE2A3FCF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E9F4-3278-449E-A329-D0C5559284F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0B45-BDCF-4002-85FA-62055381432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9FDD-6C9E-4C65-9C17-65205915504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F611-6637-43AE-A1B1-7640C452FC0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68A1-CCBA-4B1A-817D-2316CFF176B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C6D0-09FB-4624-A103-23E9C8427FC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2608-44E1-44FA-A3F7-775961D11FB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ECC2-6D0B-47C6-A430-CD836B9EFDE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EBEF-302D-47E1-98AD-3C3321AEB90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8985-8C44-42EE-A4AA-230023E3859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E649-A1ED-4C41-B46B-8665268FC89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1546-4084-4508-A296-8856018F7D7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5BA1-C41A-4772-8405-E971C0A3E3D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ip.legalis.pl/document-view.seam?documentId=mfrxilrtge2tqmrtgu2tsltqmfyc4mzrga2dqnbwgm" TargetMode="External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936000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Kontraktowanie</a:t>
            </a: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0000"/>
                </a:solidFill>
                <a:latin typeface="Candara"/>
              </a:rPr>
              <a:t>KRYTERIA OCENY OFER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Użyte w rozporządzeniu określenia oznacza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0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lokalizacj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- budynek lub zespół budynków oznaczonych tym samym adresem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albo oznaczonych innymi adresami, ale położonych obok siebie i tworzących funkcjonalną całość, w których jest zlokalizowane miejsce udzielania świadczeń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1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miejsce udzielania świadczeń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pomieszczenie lub zespół pomieszczeń w tej samej lokalizacji, powiązanych funkcjonalnie i organizacyjnie w celu wykonywania świadczeń gwarantowany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ferent, który deklaruje spełnianie warunku podlegającego ocenie, jest obowiązany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go spełniać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w okresie związania ofertą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ra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rzez cały okres realizacji umowy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chyba że przepisy rozporządzenia stanowią inaczej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Oferent, który zadeklarował spełnianie określonego warunku podlegającego ocenie, jest obowiązany go spełniać 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datkowo ponad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warunki realizacji świadczeń określone w rozporządzeniach wydanych na podstawie art. 31d ustawy o świadczeniach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272880" y="620280"/>
            <a:ext cx="936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6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) certyfikat ma zastosowanie w przedmiocie postępowania, na który złożono ofertę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2) certyfikat obejmuje miejsce udzielania świadczeń wskazane w ofercie, a w przypadku dysponenta zespołów ratownictwa medycznego - miejsce stacjonowania zespołów ratownictwa medycznego wskazane w oferci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3)  certyfikat jest wydany przez jednostkę certyfikującą systemy zarządzania posiadającą akredytację udzieloną przez Polskie Centrum Akredytacji lub przez jednostkę akredytującą będącą sygnatariuszem porozumienia o wzajemnym uznawaniu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„EA Multilateral Agreement” i jest opatrzony symbolem akredytacji jednostki akredytując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4) certyfikat jest wydany w zakresie systemów zarządzania: ISO 9001, ISO/IEC 27001, ISO 17025 lub 15189 - zgodnie z ich przyporządkowaniem do poszczególnych zakresów świadczeń wynikającym z załączników do rozporządzenia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5) akredytacja, o której mowa w pkt 3, obejmuje certyfikację systemów zarządzania wymienionych w pkt 4 oraz jest wydana w zakresie usług medycznych (branża „Zdrowie i opieka społeczna” zgodnie z kodem 38 EA, w przypadku: ISO 9001, ISO 14001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PN-N 18001 lub OHSAS 18001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415440" y="620640"/>
            <a:ext cx="900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7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wpisu do rejestru jest spełnione, jeżeli wpis jest ujawniony w księdze rejestrowej oferenta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8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"jakość - wyniki kontroli" jest spełnione, jeżeli nieprawidłowość dotyczy umowy realizowanej w dniu złożenia oferty w ramach danego zakresu świadczeń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i w ramach obszaru, którego dotyczy postępowanie, oraz została stwierdzona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ostępowaniu kontrolnym zakończonym wystąpieniem pokontrolnym lub w trakcie monitorowania, o którym mowa w art. 107 ust. 5 pkt 12 ustawy o świadczeniach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944280" y="1700280"/>
            <a:ext cx="80262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Jakość wyniki kontroli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Przedmiotowe kryterium obejmuje wszystkie kontrol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a nie jedynie ostatnią), dotyczące umowy realizowa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dniu złożenia oferty w ramach danego zakresu świadczeń i w ramach obszaru, którego dotyczy postępow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488880" y="620640"/>
            <a:ext cx="9072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9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rzypadku uzyskania jednakowej łącznej oceny oferty przez co najmniej dwóch oferentów kryterium różnicującym oferty stanowi ocena uzyskana w kolejności według następujących kryteriów: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iągł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oraz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en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pielęgnacyjne 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pielęgniarskiej opiece długoterminowej domow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"/>
          <p:cNvPicPr/>
          <p:nvPr/>
        </p:nvPicPr>
        <p:blipFill>
          <a:blip r:embed="rId1"/>
          <a:stretch/>
        </p:blipFill>
        <p:spPr>
          <a:xfrm>
            <a:off x="933480" y="1341360"/>
            <a:ext cx="8110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tylko pielęgniarki z ukończoną specjalizacją lub kursem kwalifikacyjnym we wskazanej dziedzinie pielęgniarstwa, 40% liczone od sumy wykazanego czasu pracy pielęgniarek w oferci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"/>
          <p:cNvPicPr/>
          <p:nvPr/>
        </p:nvPicPr>
        <p:blipFill>
          <a:blip r:embed="rId1"/>
          <a:stretch/>
        </p:blipFill>
        <p:spPr>
          <a:xfrm>
            <a:off x="631800" y="1744560"/>
            <a:ext cx="8713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560160" y="1484280"/>
            <a:ext cx="9001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Ministra Zdrowia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sprawie szczegółowych kryteriów wyboru ofert w postępowaniu w sprawie zawarcia umów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 udzielanie świadczeń opieki zdrowotn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5 sierpnia 2016 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(Dz.U. z 2016 r. poz. 1372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5769-D590-4CB3-B131-A3B20EE9EDF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8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2-letnim doświadczeniem w udzielaniu świadczeń w warunkach domowych…” – bierze się pod uwagę udokumentowany staż pracy w pielęgniarskiej opiece długoterminowej domowej, podstawowej opiece zdrowotnej (pielęgniarki poz), pracy w domu pomocy społecz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9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3-letnim doświadczeniem w pielęgnacji chorych w warunkach oddziału szpitalnego …” – bierze się pod uwagę udokumentowany staż pracy w warunkach oddziału szpitalnego (bez izby przyjęć, SO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Co najmniej 50% pielęgniarek udziela świadczeń w wymiarze równoważnika 1 etatu” – dotyczy liczby pielęgniarek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 nie czasu pracy pielęgniarek) i tylko umów o pracę (wyjątek samozatrudnienie tj. indywidualne, grupowe praktyki pielęgniarskie) należy pamiętać o konieczności spełniania tego warunku przez cały okres obowiązywania umow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631800" y="2792520"/>
            <a:ext cx="8713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2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wszystkich świadczeniobiorców, którzy otrzymali ocenę według skali Barthel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5 ze skierowania lub uzyskali taką oceną przynajmniej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 w trakcie pielęgniarskiej opieki długoterminowej domowej i byli objęci taką opieką przez co najmniej 90 dni w okresie ostatnich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miesięcy poprzedzających o 2 miesiące miesiąc, w którym ogłoszono postępowanie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488880" y="2433600"/>
            <a:ext cx="8928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488880" y="1484280"/>
          <a:ext cx="8785440" cy="40338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43988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obliczeń procentowego udziału świadczeniobiorców z oceną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punktów w skali Barthel, należy brać pod uwagę wszystkie osoby objęte pielęgniarską opieką długoterminową domową, które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załączonej do skierowania karcie oceny lub w trakcie opieki uzyskały przynajmniej raz ocenę 0 punktów w skali Barthel, w stosunk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szystkich osób objętych tą formą opieki przez danego świadczeniodawcę. Sformułowanie "objętych opieką w ramach pielęgniarskiej opieki długoterminowej domowej" oznacza zarówno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 osoby , które zostały przyjęte do takiej opieki w badanym okresie czasu, jak i te osoby, które były przyjęte wcześniej, a kontynuowały opiek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2" descr=""/>
          <p:cNvPicPr/>
          <p:nvPr/>
        </p:nvPicPr>
        <p:blipFill>
          <a:blip r:embed="rId1"/>
          <a:stretch/>
        </p:blipFill>
        <p:spPr>
          <a:xfrm>
            <a:off x="488880" y="2701800"/>
            <a:ext cx="8928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704880" y="1700280"/>
          <a:ext cx="8496360" cy="338436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33843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a wyliczania jest analogiczna jak w ppkt.1.2 Podstawę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yliczenia stanowią wszystkie osoby objęte pielęgniarską opieką długoterminową, które w trakcie opieki przynajmniej raz otrzymały ocenę 5-15 punktów w skali Barthel, w stosunku do wszystkich osób objętych tą formą opieki przez danego świadczeniodawc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488880" y="2576520"/>
            <a:ext cx="8928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88520" y="1196640"/>
            <a:ext cx="900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określa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szczegółowe kryteria wyboru ofert 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w podziale na poszczególne zakresy lub rodzaje świadczeń opieki zdrowotnej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na podstawie </a:t>
            </a:r>
            <a:r>
              <a:rPr b="0" lang="pl-PL" sz="32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art. 148 ust. 3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 ustawy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27 sierpnia 2004 r. o świadczeniach opieki zdrowotnej finansowanych ze środków publicznych ( t.j. Dz.U. z 2018 r. poz. 1510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2D30-3FB1-4DB8-A29F-1F768809B38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8" name=""/>
          <p:cNvGraphicFramePr/>
          <p:nvPr/>
        </p:nvGraphicFramePr>
        <p:xfrm>
          <a:off x="704880" y="1484280"/>
          <a:ext cx="8569440" cy="39607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396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leży przyjąć, że kryterium jest spełnione, jeżeli dotyczy wszystkich świadczeniobiorców objętych świadczeniami pielęgniarskiej opieki długoterminowej domowej w okresach pomiędzy wszystkimi hospitalizacjami oraz po ich zakończeniu, z wyłączeniem zgon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b objęcia świadczeniobiorcy inną formą opieki w ramach świadczeń opieki zdrowotnej finansowanych ze środków publicznych. Spełnienie ww. warunku kryterialnych oferent może potwierdzić na podstawie zgromadzonej dokumentacji medycznej. np. w sytuacji gdy pacjent zrezygnuje ze świadczeń pielęgniarskiej opieki długoterminow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488880" y="3292560"/>
            <a:ext cx="892800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704880" y="1197000"/>
            <a:ext cx="8209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488880" y="2643120"/>
            <a:ext cx="8928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488880" y="2492280"/>
            <a:ext cx="89280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488880" y="2421000"/>
            <a:ext cx="8928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776160" y="2205000"/>
          <a:ext cx="8425080" cy="309564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3095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jest spełniony, gdy oferent wg stanu na dzień złożenia oferty udziela świadczeń w ramach zawartej umowy w danym zakresie świadczeń oraz w danym obszarze, na który zostało ogłoszone postępowanie. </a:t>
                      </a: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tyczy także sytuacji dokonania sukcesji generalnej czy cesji umowy, cesjonariusz (sukcesor) wchodzi w ogół praw i obowiązków wynikających z umowy o udzielanie świadczeń opieki zdrowot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415800" y="2492280"/>
            <a:ext cx="89283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776160" y="1773360"/>
          <a:ext cx="8498160" cy="360036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189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5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09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10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"/>
          <p:cNvPicPr/>
          <p:nvPr/>
        </p:nvPicPr>
        <p:blipFill>
          <a:blip r:embed="rId1"/>
          <a:stretch/>
        </p:blipFill>
        <p:spPr>
          <a:xfrm>
            <a:off x="560520" y="2565360"/>
            <a:ext cx="8713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3D27-8B19-45AE-93B6-60F7B8BB698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5" descr=""/>
          <p:cNvPicPr/>
          <p:nvPr/>
        </p:nvPicPr>
        <p:blipFill>
          <a:blip r:embed="rId1"/>
          <a:stretch/>
        </p:blipFill>
        <p:spPr>
          <a:xfrm>
            <a:off x="920880" y="1700280"/>
            <a:ext cx="8208720" cy="3989160"/>
          </a:xfrm>
          <a:prstGeom prst="rect">
            <a:avLst/>
          </a:prstGeom>
          <a:ln w="0">
            <a:noFill/>
          </a:ln>
        </p:spPr>
      </p:pic>
      <p:sp>
        <p:nvSpPr>
          <p:cNvPr id="845" name="Strzałka w lewo 1"/>
          <p:cNvSpPr/>
          <p:nvPr/>
        </p:nvSpPr>
        <p:spPr>
          <a:xfrm>
            <a:off x="8481960" y="2433600"/>
            <a:ext cx="1008000" cy="287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6" descr=""/>
          <p:cNvPicPr/>
          <p:nvPr/>
        </p:nvPicPr>
        <p:blipFill>
          <a:blip r:embed="rId2"/>
          <a:stretch/>
        </p:blipFill>
        <p:spPr>
          <a:xfrm>
            <a:off x="8459640" y="3573360"/>
            <a:ext cx="1030320" cy="304920"/>
          </a:xfrm>
          <a:prstGeom prst="rect">
            <a:avLst/>
          </a:prstGeom>
          <a:ln w="0">
            <a:noFill/>
          </a:ln>
        </p:spPr>
      </p:pic>
      <p:sp>
        <p:nvSpPr>
          <p:cNvPr id="847" name="Strzałka w lewo 7"/>
          <p:cNvSpPr/>
          <p:nvPr/>
        </p:nvSpPr>
        <p:spPr>
          <a:xfrm>
            <a:off x="8459640" y="4941720"/>
            <a:ext cx="1008360" cy="287640"/>
          </a:xfrm>
          <a:prstGeom prst="leftArrow">
            <a:avLst>
              <a:gd name="adj1" fmla="val 50000"/>
              <a:gd name="adj2" fmla="val 4995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hospicjum domowy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944640" y="1268280"/>
            <a:ext cx="8026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560520" y="1557360"/>
            <a:ext cx="84103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560520" y="2205000"/>
            <a:ext cx="8410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560520" y="1644480"/>
            <a:ext cx="8410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2" descr=""/>
          <p:cNvPicPr/>
          <p:nvPr/>
        </p:nvPicPr>
        <p:blipFill>
          <a:blip r:embed="rId1"/>
          <a:stretch/>
        </p:blipFill>
        <p:spPr>
          <a:xfrm>
            <a:off x="560520" y="2276640"/>
            <a:ext cx="8569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856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4103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944280" y="1125360"/>
            <a:ext cx="8026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Problematycz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spełnienia warunku w którym występuje pojęcie „świadczeniobiorcy” przez oferentów, którzy nie byli dotychczas stroną umowy zawartej z NFZ (opinia MZ wskazująca na równe traktowanie wszystkich świadczeniodawców ubiegających się o zawarcie umow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warunków dodatkowo ocenianych powinno być prowadzone w oparciu o dostępne dla NFZ dane,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zypadku danych niedostępnych dla NFZ, oferent który zadeklarował spełnianie określonego warunku, jest zobowiązany go udokumentować. Potwierdzenie jest możliwe w szczególności na podstawie zgromadzonej dokumentacji medyczn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2" descr=""/>
          <p:cNvPicPr/>
          <p:nvPr/>
        </p:nvPicPr>
        <p:blipFill>
          <a:blip r:embed="rId1"/>
          <a:stretch/>
        </p:blipFill>
        <p:spPr>
          <a:xfrm>
            <a:off x="1446120" y="304812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415440" y="1700280"/>
            <a:ext cx="9145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yrażen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2 miesięcy poprzedzających o 2 miesiące miesiąc,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którym ogłoszono postępowanie” np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głoszenie postępowania konkursowego w dniu 7 marca 2019 r. wówczas należy brać pod uwagę okr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d 1 stycznia 2018 r. do 31 grudnia 2018 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45216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Świadczenia pielęgnacyjne i opiekuńcze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ramach opieki długoterminow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mieniające rozporządzeni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szczegółowych kryteriów wyboru ofert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 dnia 8 lutego 2018 r. (Dz.U. z 2018 r. poz. 385) – </a:t>
            </a: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załącznik nr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D700-6B69-445C-A1CC-6FCDCEED4F3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41544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Rozporządzenie Ministra Zdrowia z dnia 5 sierpnia 2016 r. w sprawie szczegółowych kryteriów wyboru ofert w postępowaniu w sprawie zawarcia umów o udzielanie świadczeń opieki zdrowotnej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(Dz.U. z 2016, poz. 1372 z późniejszymi zmianami - w szczególności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Dz. U. z 2017 r. poz. 1279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Załącznik nr 11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–  Wykaz szczegółowych kryteriów wyboru ofert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raz z wyznaczającymi je warunkami oraz przypisaną im wartością w rodzaju </a:t>
            </a:r>
            <a:r>
              <a:rPr b="1" lang="pl-PL" sz="2000" spc="-1" strike="noStrike">
                <a:solidFill>
                  <a:srgbClr val="ff0000"/>
                </a:solidFill>
                <a:latin typeface="Candara"/>
              </a:rPr>
              <a:t>opieka paliatywna i hospicyjna -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ze zmianam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9728-F90F-4DA0-968B-CE9587E2901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848880" y="1773000"/>
            <a:ext cx="8280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1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dla poszczególnych zakresów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2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wspólne dla całego rodzaju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Kryteria wyboru ofer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95000" y="2637000"/>
            <a:ext cx="89154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Candara"/>
              </a:rPr>
              <a:t>Oceny ofert, według określonych kryteriów, dokonuje się odrębnie dla każdego oferowanego zakresu świadczeń opieki zdrowotnej w ramach danego postępowania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4E21-BEA6-470D-AD45-CDAD3EB9D37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14Z</dcterms:modified>
  <cp:revision>1282</cp:revision>
  <dc:subject/>
  <dc:title>Slajd 1</dc:title>
</cp:coreProperties>
</file>